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jpeg" ContentType="image/jpeg"/>
  <Override PartName="/ppt/media/image12.png" ContentType="image/png"/>
  <Override PartName="/ppt/media/image6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sldNum" idx="2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D673-8B57-4018-953E-66FFD89AB1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0233-696E-44D0-B4B7-F8C324383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F697-CDA5-48C9-AF4A-28A5DD10704E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B928-7412-4D6D-954A-EC3A4C677E7B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B451-9869-48CE-8DD0-6E13EBB69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431A-CAE5-4D57-B058-ECD5736E64B3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ED72-8281-490F-B860-CDDA912C73FC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3AC1-7BEB-4276-9E6A-A69559B91293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0AF8-C69A-4A36-A60A-69A563005979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9552-DB3A-42C4-BD2D-F0D67362E33C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DF14-C999-48E6-A19C-A3C4DD21B4B6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C5C8-C8F8-4E98-B6DD-A3D4DE192198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9468-586B-481D-A870-DC5B7DD242A5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2A45-6823-4350-9A5E-A40C02BF8905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FCAF-6A34-42CB-A522-4D3DB66E04AF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1D63-05F4-4A0C-9292-3A60FF87F0B4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7791-C0B5-47D0-ADAE-76A42E137CF8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88E1-EC32-4CD6-B575-A3AC2DF5C669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1ABA-3F3C-4478-A764-E55E2DE11DA0}" type="slidenum">
              <a:rPr b="0" lang="en-US" sz="12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274D-8066-4A78-87E2-A7690734EC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EC56-0FA9-402E-A734-3F8F1D75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90E82-E363-4872-886F-38B512BB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B3DE6-13D6-4D1D-9230-4F5E94D6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548F7-42A6-450B-9FAD-73DFF6B9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E7EFA-8A3F-4AA2-A928-FCB17F00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F6DAA-F7C9-4BEB-9AA4-1F7416F1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BC4E3-4FEE-491C-8E55-05ECDEE0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40DF1-5FB3-4222-B407-3B4A2CA6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665E10-5D1C-4930-9FC2-F1FC6708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F2339-834F-4168-9A0F-5821E840C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FC1CD0-15CE-4778-AB50-C4E7550E32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015D-A89E-488A-80D7-83960C45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EFE28F-1044-40BF-A9CE-B74FA6CA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5EB7D0-C776-43C4-AAE0-EF76EDB8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FFD070-EF88-48D5-99F5-31DDC1DF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40D00A-DA34-4F53-9021-856F128C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0AAF70-D9CF-4D3E-AAEB-2E79563F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8632F1-2B7B-409F-A638-BE7D4329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EAE592-FF98-41B9-83C2-B0323CB9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899C26-A0C2-4585-B6D5-A352C631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541B12-8B48-4634-AA4D-FDA8C0CC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B5F0D6-C6B4-4731-AA8E-D6B4C682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0A2D-DA2A-4E67-A173-8A86F66F43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294FAF-4D1F-4EED-AF4D-DD72EA83F2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A6C35-EC57-41FF-A34D-A4C1D9A3D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61257-A426-476D-91B8-3CB88D08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A868-97B8-4AE6-9874-0D9AA9A6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F429D-4A7F-450D-9E27-192983D1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39B04-010D-4360-8371-50850828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4E829-30A7-4361-8049-38953969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C049A-2E40-4573-87E3-2B8EC3EF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E8841-D248-4FD1-BA2B-C7417853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03ACB-8DB2-4A84-851D-6C7F6DCD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8A9C6-07B6-4892-AC33-09BB6244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CB0DD-658B-4BCB-B20D-D24D7175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CA407-9FFA-4751-9E4D-6783BA0D2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00D8F0-EF41-4607-9EF4-20ED5179B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7B3DC5-1B87-4DF8-B258-663B8F87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A8835F-64BF-4DB7-A79D-55E8B9CD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4A8D6-8197-4EE0-A77C-55B322F1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CFE433-2A14-4045-8E9F-98894BA0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686E97-E00B-496E-B736-6DC71807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7CA5EC-7940-4FD7-8589-08C95E8E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822F9C-C9FA-4373-B98B-D529F6BB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FB1E70-2B0E-4493-8A47-1D204885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8A90A5-36DA-4D4B-A6A1-DC7BB2F8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BFED38-9D16-4E4D-AB3A-4EB2A94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8A6D7B-6264-4FDD-8A1F-B36788CBE0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186C-ACFC-4F63-91EE-19C37892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77323-338D-4C4A-929B-5E6CB1048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8C24C-99BC-4932-A756-91C2296C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C249E-3E78-4011-9C5C-18FD502A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59FB3-4957-4315-90C6-607CA025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04FE2-2D3F-49C0-B7C4-A542612F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5481-0EFE-4A22-A694-1C0A6EC3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09B7E-F2AE-4AF6-9487-E5130DD6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9B646-B940-45BC-9F83-CC26BAC1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5720F-F46B-4BB1-BE75-85E41E3B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B3B44-BF5F-490C-94F0-C7935070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38FF1-A4F4-4B72-B120-C3F4E7C9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D1830-E40E-4C2C-9CCA-BD3D4D99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BBA83-4C8E-4041-89FE-06C6D4B3E9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B770B1-AA7C-435F-A03B-250ACA995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2392D-EC32-4B17-B536-C705C286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C9F4A-26AF-4E17-8E92-8481CCCB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EE2E-6552-4571-B119-532F9B7F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64CA43-12E6-4665-BE3D-3D19CC31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0E546-1161-4F79-A9D3-04AAD956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1D28A-D98D-43F6-81ED-C563DDC7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9DF6C-D3A1-4346-A2C0-1F4F23A0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7E9E8B-D995-47A0-A293-5747C354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CEB98-283B-4B38-B9D2-45977A19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04071-B197-4F3C-B8BD-3F75A53A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285D5B-C0D2-4A38-B6FC-EBD353A7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767688-1C1C-46C0-856F-B260782C5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4D0B-6A0E-4A88-9D2E-A81FFD6350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9BB7-6080-4B97-B014-62E0B5C1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2712-388B-4124-99FD-A50C9825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6B22A-EF29-4677-B355-F626C459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28678-B46C-4EFA-B213-E9406D5D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A9D24-1522-4F63-95CE-092FF871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BC6F-2EAA-4A27-A3CC-193428CF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DC0B-0D5B-4E5B-8D98-B84A70D7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3500-AF33-4CB6-B747-AF61FCA4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3CFA6-291C-45F5-84E4-C9CF6BA1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6F9D-53DF-48B8-A7AC-F32F29AC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3AA8-0C0A-4579-AD2B-49D1F784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D942-B47E-4975-B7B5-666B1DE1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EC7E-B7A3-48BE-BD0C-6373283E1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8CA8A-FA92-4629-8D82-F6B2361400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9A980-6B5B-4B6A-A4DD-F1EA4891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E5556-2A73-49FE-A48D-3AF8492F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169ECB-C9D2-4B98-9D40-8A1E87EE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4DB9F-C0D6-49E7-9973-DD6BEB30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F6E77-759E-42A1-B691-5DFE5F58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49877-6E10-4931-A790-46AB4823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730AE-BF68-4405-B030-827F5E79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E972F-4F7D-48E4-85DD-E0CCCFDA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CD4D-8BC2-403F-BA0B-E0732D4F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CE0AA-D38D-40F5-9F05-C2EF729E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40DFD-B7E4-4836-BDC2-EE7BD06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C1A6A-C53B-472B-9392-8C5235A76F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C14D48-8753-429F-96CC-5EC7F4B80E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CFCD03-D257-4637-8AFF-418464D0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576646-0896-42D2-91DE-1609A27E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07BCE9-5815-42C3-A35A-67B2F960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984A77-74E4-4935-BDFB-5A7F22A7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AACACF-77E8-4F6A-8638-917561F2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2D8E64-6CC4-4504-862A-0C7720AC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2865-85F1-4A99-B04E-A68EF2C5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29BD1A-0EC9-4BFF-B221-927305BE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A7F154-08AB-4D11-8810-9AC4E9A4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78DB8-B903-43A3-AD08-C6AAE85F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DF285E-3E42-482A-86BD-F7CD9A0A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8366B-360E-43A0-8A34-41012AA54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46C0-1C9E-452D-A980-1710C2C599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F5118-0639-45C0-9523-9B86168B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0AC3F-DD19-4A38-B180-8D36393F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DD753-680C-4A00-973A-449FBD03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CB07A-5213-43B5-86BD-209E2D06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083F-F225-4ABF-A4A9-0166BA20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6889-C1D5-4C9F-9E6B-A013C19C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DA866-BE13-430B-827C-A496F6F5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117B1-DBC8-4E10-B6E1-DC6A6A4F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169B5-E75B-4191-B599-237BF23F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07F4A-2BDA-441F-B5C5-0FD59AB4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B2CC7-F722-47B0-A7E4-6CC737B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FADC-DCA0-4B1B-835C-F79DFDDB71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F0856-BCC3-4058-A242-ED4871B8E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E6789-EFC9-4CE2-BB7D-FBC2C6BB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E419E-E418-4794-A3C4-73F0BA82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7785-20F4-4255-A5B3-3D62D2E1CB73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9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1471-AC40-416F-B1A3-871ABBB3242C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dt" idx="20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2976-4BA2-468D-8262-692CE989C591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dt" idx="2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3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5A1C-14AD-4E9A-82BE-2C9E285B9660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dt" idx="24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2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Line 81"/>
            <p:cNvSpPr/>
            <p:nvPr/>
          </p:nvSpPr>
          <p:spPr>
            <a:xfrm flipV="1">
              <a:off x="838368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5" name="Oval 82"/>
            <p:cNvSpPr/>
            <p:nvPr/>
          </p:nvSpPr>
          <p:spPr>
            <a:xfrm rot="10800000">
              <a:off x="8307360" y="5029560"/>
              <a:ext cx="15228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6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1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1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Num" idx="5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A8A3-DDB6-447D-9A8E-E2188CB520B9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6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D1F8-2119-49FE-A87D-279BD0473C7D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dt" idx="8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0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4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9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41F8-47E8-4B8F-909D-5FD04E4C967E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0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4EE-F737-4767-951A-0EEFB081A23A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1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3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259F-7BD2-4459-B90A-842BC7597C07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dt" idx="14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8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5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5F88-02A9-4006-BEFD-1441401D969A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dt" idx="16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7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CD18-849C-4192-899B-FD23A636C10C}" type="slidenum"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dt" idx="18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5-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highered.mheducation.com/olc/dl/120069/bio08.swf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KXWurAmtf78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highered.mheducation.com/olc/dl/120110/micro33.swf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hyperlink" Target="http://highered.mheducation.com/olc/dl/120107/bio_c.swf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829656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mic Sans MS"/>
              </a:rPr>
              <a:t>Cell Communication</a:t>
            </a:r>
            <a:endParaRPr b="1" lang="en-US" sz="5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00" name="Picture 4" descr="http://www.utm.utoronto.ca/~w3bio315/picts/lectures/lecture4/TypesInterCellSig1.jpg"/>
          <p:cNvPicPr/>
          <p:nvPr/>
        </p:nvPicPr>
        <p:blipFill>
          <a:blip r:embed="rId1"/>
          <a:stretch/>
        </p:blipFill>
        <p:spPr>
          <a:xfrm>
            <a:off x="1676520" y="2050920"/>
            <a:ext cx="56847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Step Two - Transduction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612720" y="1218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gnal initiated by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onformational chang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of receptor prote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gnal is turned into 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ellular response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4694"/>
                </a:solidFill>
                <a:latin typeface="Arial"/>
              </a:rPr>
              <a:t>Signaling cascades relay signals to targe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ultistep pathways can 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amplify a signa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Second messengers invol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19" name="Picture 5" descr="http://www.uic.edu/classes/bios/bios100/mike/spring2003/signaltrans02.jpg"/>
          <p:cNvPicPr/>
          <p:nvPr/>
        </p:nvPicPr>
        <p:blipFill>
          <a:blip r:embed="rId1"/>
          <a:stretch/>
        </p:blipFill>
        <p:spPr>
          <a:xfrm>
            <a:off x="3657600" y="4343400"/>
            <a:ext cx="5184720" cy="226368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Step Three - Response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ell signaling leads to </a:t>
            </a:r>
            <a:r>
              <a:rPr b="1" lang="en-US" sz="3200" spc="-1" strike="noStrike">
                <a:solidFill>
                  <a:srgbClr val="303469"/>
                </a:solidFill>
                <a:latin typeface="Arial"/>
              </a:rPr>
              <a:t>regulation of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ytoplasmic activities 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ranscriptio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-272880">
              <a:buClr>
                <a:srgbClr val="ecd88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Signaling pathways regulate a </a:t>
            </a:r>
            <a:r>
              <a:rPr b="1" lang="en-US" sz="3200" spc="-1" strike="noStrike">
                <a:solidFill>
                  <a:srgbClr val="034694"/>
                </a:solidFill>
                <a:latin typeface="Arial"/>
              </a:rPr>
              <a:t>variety of cellular activities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22" name="Picture 5" descr="http://www.uic.edu/classes/bios/bios100/mike/spring2003/signaltrans02.jpg"/>
          <p:cNvPicPr/>
          <p:nvPr/>
        </p:nvPicPr>
        <p:blipFill>
          <a:blip r:embed="rId1"/>
          <a:stretch/>
        </p:blipFill>
        <p:spPr>
          <a:xfrm>
            <a:off x="2057400" y="4038480"/>
            <a:ext cx="5410080" cy="259092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3" name="Group 298"/>
          <p:cNvGrpSpPr/>
          <p:nvPr/>
        </p:nvGrpSpPr>
        <p:grpSpPr>
          <a:xfrm>
            <a:off x="1690560" y="1231920"/>
            <a:ext cx="6801840" cy="5219640"/>
            <a:chOff x="1690560" y="1231920"/>
            <a:chExt cx="6801840" cy="5219640"/>
          </a:xfrm>
        </p:grpSpPr>
        <p:grpSp>
          <p:nvGrpSpPr>
            <p:cNvPr id="1524" name="Group 299"/>
            <p:cNvGrpSpPr/>
            <p:nvPr/>
          </p:nvGrpSpPr>
          <p:grpSpPr>
            <a:xfrm>
              <a:off x="1690560" y="1231920"/>
              <a:ext cx="6801840" cy="5219640"/>
              <a:chOff x="1690560" y="1231920"/>
              <a:chExt cx="6801840" cy="5219640"/>
            </a:xfrm>
          </p:grpSpPr>
          <p:grpSp>
            <p:nvGrpSpPr>
              <p:cNvPr id="1525" name="Group 300"/>
              <p:cNvGrpSpPr/>
              <p:nvPr/>
            </p:nvGrpSpPr>
            <p:grpSpPr>
              <a:xfrm>
                <a:off x="1690560" y="1231920"/>
                <a:ext cx="6801840" cy="5219640"/>
                <a:chOff x="1690560" y="1231920"/>
                <a:chExt cx="6801840" cy="5219640"/>
              </a:xfrm>
            </p:grpSpPr>
            <p:grpSp>
              <p:nvGrpSpPr>
                <p:cNvPr id="1526" name="Group 301"/>
                <p:cNvGrpSpPr/>
                <p:nvPr/>
              </p:nvGrpSpPr>
              <p:grpSpPr>
                <a:xfrm>
                  <a:off x="1690560" y="1231920"/>
                  <a:ext cx="6801840" cy="5219640"/>
                  <a:chOff x="1690560" y="1231920"/>
                  <a:chExt cx="6801840" cy="5219640"/>
                </a:xfrm>
              </p:grpSpPr>
              <p:pic>
                <p:nvPicPr>
                  <p:cNvPr id="1527" name="Picture 302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690560" y="1262160"/>
                    <a:ext cx="6767640" cy="51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28" name="Text Box 303"/>
                  <p:cNvSpPr/>
                  <p:nvPr/>
                </p:nvSpPr>
                <p:spPr>
                  <a:xfrm>
                    <a:off x="3419280" y="1231920"/>
                    <a:ext cx="10735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Signal molecul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Text Box 304"/>
                  <p:cNvSpPr/>
                  <p:nvPr/>
                </p:nvSpPr>
                <p:spPr>
                  <a:xfrm>
                    <a:off x="4003200" y="2913120"/>
                    <a:ext cx="57060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Text Box 305"/>
                  <p:cNvSpPr/>
                  <p:nvPr/>
                </p:nvSpPr>
                <p:spPr>
                  <a:xfrm>
                    <a:off x="4901760" y="3854520"/>
                    <a:ext cx="57060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Text Box 306"/>
                  <p:cNvSpPr/>
                  <p:nvPr/>
                </p:nvSpPr>
                <p:spPr>
                  <a:xfrm>
                    <a:off x="5786280" y="4780080"/>
                    <a:ext cx="57060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Text Box 307"/>
                  <p:cNvSpPr/>
                  <p:nvPr/>
                </p:nvSpPr>
                <p:spPr>
                  <a:xfrm>
                    <a:off x="1872720" y="2657520"/>
                    <a:ext cx="9712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 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Text Box 308"/>
                  <p:cNvSpPr/>
                  <p:nvPr/>
                </p:nvSpPr>
                <p:spPr>
                  <a:xfrm>
                    <a:off x="2742480" y="3576600"/>
                    <a:ext cx="9712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 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Text Box 309"/>
                  <p:cNvSpPr/>
                  <p:nvPr/>
                </p:nvSpPr>
                <p:spPr>
                  <a:xfrm>
                    <a:off x="3628440" y="4519440"/>
                    <a:ext cx="9712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 kina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Text Box 310"/>
                  <p:cNvSpPr/>
                  <p:nvPr/>
                </p:nvSpPr>
                <p:spPr>
                  <a:xfrm>
                    <a:off x="4755240" y="5462640"/>
                    <a:ext cx="62100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In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Text Box 311"/>
                  <p:cNvSpPr/>
                  <p:nvPr/>
                </p:nvSpPr>
                <p:spPr>
                  <a:xfrm>
                    <a:off x="6657480" y="5829480"/>
                    <a:ext cx="57060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ctiv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Line 312"/>
                  <p:cNvSpPr/>
                  <p:nvPr/>
                </p:nvSpPr>
                <p:spPr>
                  <a:xfrm flipV="1">
                    <a:off x="3311640" y="1409400"/>
                    <a:ext cx="147600" cy="73080"/>
                  </a:xfrm>
                  <a:prstGeom prst="line">
                    <a:avLst/>
                  </a:prstGeom>
                  <a:ln w="255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27360" bIns="2736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Text Box 313"/>
                  <p:cNvSpPr/>
                  <p:nvPr/>
                </p:nvSpPr>
                <p:spPr>
                  <a:xfrm>
                    <a:off x="7618680" y="5835600"/>
                    <a:ext cx="7063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Cellular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respons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Text Box 314"/>
                  <p:cNvSpPr/>
                  <p:nvPr/>
                </p:nvSpPr>
                <p:spPr>
                  <a:xfrm>
                    <a:off x="2307600" y="2087640"/>
                    <a:ext cx="6987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Receptor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Line 315"/>
                  <p:cNvSpPr/>
                  <p:nvPr/>
                </p:nvSpPr>
                <p:spPr>
                  <a:xfrm flipH="1">
                    <a:off x="2943360" y="2008080"/>
                    <a:ext cx="172800" cy="171720"/>
                  </a:xfrm>
                  <a:prstGeom prst="line">
                    <a:avLst/>
                  </a:prstGeom>
                  <a:ln w="255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Text Box 316"/>
                  <p:cNvSpPr/>
                  <p:nvPr/>
                </p:nvSpPr>
                <p:spPr>
                  <a:xfrm>
                    <a:off x="3554280" y="4267080"/>
                    <a:ext cx="2689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Text Box 317"/>
                  <p:cNvSpPr/>
                  <p:nvPr/>
                </p:nvSpPr>
                <p:spPr>
                  <a:xfrm>
                    <a:off x="5457600" y="3825720"/>
                    <a:ext cx="2689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Text Box 318"/>
                  <p:cNvSpPr/>
                  <p:nvPr/>
                </p:nvSpPr>
                <p:spPr>
                  <a:xfrm>
                    <a:off x="6341760" y="4767120"/>
                    <a:ext cx="26892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Text Box 319"/>
                  <p:cNvSpPr/>
                  <p:nvPr/>
                </p:nvSpPr>
                <p:spPr>
                  <a:xfrm>
                    <a:off x="3736800" y="3703680"/>
                    <a:ext cx="4305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T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Text Box 320"/>
                  <p:cNvSpPr/>
                  <p:nvPr/>
                </p:nvSpPr>
                <p:spPr>
                  <a:xfrm>
                    <a:off x="4173480" y="3862440"/>
                    <a:ext cx="444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D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Text Box 321"/>
                  <p:cNvSpPr/>
                  <p:nvPr/>
                </p:nvSpPr>
                <p:spPr>
                  <a:xfrm>
                    <a:off x="5038560" y="4776840"/>
                    <a:ext cx="444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D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Text Box 322"/>
                  <p:cNvSpPr/>
                  <p:nvPr/>
                </p:nvSpPr>
                <p:spPr>
                  <a:xfrm>
                    <a:off x="5972040" y="5718240"/>
                    <a:ext cx="444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D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Text Box 323"/>
                  <p:cNvSpPr/>
                  <p:nvPr/>
                </p:nvSpPr>
                <p:spPr>
                  <a:xfrm>
                    <a:off x="4633920" y="4645080"/>
                    <a:ext cx="4305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T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Text Box 324"/>
                  <p:cNvSpPr/>
                  <p:nvPr/>
                </p:nvSpPr>
                <p:spPr>
                  <a:xfrm>
                    <a:off x="5518080" y="5575320"/>
                    <a:ext cx="4305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T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Text Box 325"/>
                  <p:cNvSpPr/>
                  <p:nvPr/>
                </p:nvSpPr>
                <p:spPr>
                  <a:xfrm>
                    <a:off x="5665680" y="6051600"/>
                    <a:ext cx="352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Text Box 326"/>
                  <p:cNvSpPr/>
                  <p:nvPr/>
                </p:nvSpPr>
                <p:spPr>
                  <a:xfrm>
                    <a:off x="3933720" y="4168800"/>
                    <a:ext cx="352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Text Box 327"/>
                  <p:cNvSpPr/>
                  <p:nvPr/>
                </p:nvSpPr>
                <p:spPr>
                  <a:xfrm>
                    <a:off x="4807080" y="5106960"/>
                    <a:ext cx="352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P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Text Box 328"/>
                  <p:cNvSpPr/>
                  <p:nvPr/>
                </p:nvSpPr>
                <p:spPr>
                  <a:xfrm>
                    <a:off x="3646080" y="2089080"/>
                    <a:ext cx="10141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Activated relay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molecul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329"/>
                  <p:cNvSpPr/>
                  <p:nvPr/>
                </p:nvSpPr>
                <p:spPr>
                  <a:xfrm flipV="1">
                    <a:off x="3448080" y="2271600"/>
                    <a:ext cx="220680" cy="162000"/>
                  </a:xfrm>
                  <a:prstGeom prst="line">
                    <a:avLst/>
                  </a:prstGeom>
                  <a:ln w="255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Text Box 330"/>
                  <p:cNvSpPr/>
                  <p:nvPr/>
                </p:nvSpPr>
                <p:spPr>
                  <a:xfrm>
                    <a:off x="5429160" y="6203880"/>
                    <a:ext cx="201960" cy="18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40458c"/>
                        </a:solidFill>
                        <a:latin typeface="Arial"/>
                      </a:rPr>
                      <a:t>i</a:t>
                    </a:r>
                    <a:endParaRPr b="0" lang="en-US" sz="6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AutoShape 331"/>
                  <p:cNvSpPr/>
                  <p:nvPr/>
                </p:nvSpPr>
                <p:spPr>
                  <a:xfrm rot="19800000">
                    <a:off x="7684920" y="2458800"/>
                    <a:ext cx="73080" cy="2957400"/>
                  </a:xfrm>
                  <a:custGeom>
                    <a:avLst/>
                    <a:gdLst>
                      <a:gd name="textAreaLeft" fmla="*/ 0 w 73080"/>
                      <a:gd name="textAreaRight" fmla="*/ 26280 w 73080"/>
                      <a:gd name="textAreaTop" fmla="*/ 77040 h 2957400"/>
                      <a:gd name="textAreaBottom" fmla="*/ 2880360 h 2957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Text Box 332"/>
                  <p:cNvSpPr/>
                  <p:nvPr/>
                </p:nvSpPr>
                <p:spPr>
                  <a:xfrm rot="3600000">
                    <a:off x="7107840" y="3817800"/>
                    <a:ext cx="159768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40458c"/>
                        </a:solidFill>
                        <a:latin typeface="Arial"/>
                      </a:rPr>
                      <a:t>Phosphorylation cascade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8" name="Text Box 333"/>
                <p:cNvSpPr/>
                <p:nvPr/>
              </p:nvSpPr>
              <p:spPr>
                <a:xfrm>
                  <a:off x="5324040" y="6130800"/>
                  <a:ext cx="303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P 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9" name="Text Box 334"/>
                <p:cNvSpPr/>
                <p:nvPr/>
              </p:nvSpPr>
              <p:spPr>
                <a:xfrm>
                  <a:off x="7154640" y="5684760"/>
                  <a:ext cx="268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P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0" name="Text Box 335"/>
                <p:cNvSpPr/>
                <p:nvPr/>
              </p:nvSpPr>
              <p:spPr>
                <a:xfrm>
                  <a:off x="4545000" y="5272200"/>
                  <a:ext cx="20196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40458c"/>
                      </a:solidFill>
                      <a:latin typeface="Arial"/>
                    </a:rPr>
                    <a:t>i</a:t>
                  </a:r>
                  <a:endParaRPr b="0" lang="en-US" sz="6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Text Box 336"/>
              <p:cNvSpPr/>
              <p:nvPr/>
            </p:nvSpPr>
            <p:spPr>
              <a:xfrm>
                <a:off x="3654360" y="4344840"/>
                <a:ext cx="2019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40458c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562" name="Text Box 337"/>
            <p:cNvSpPr/>
            <p:nvPr/>
          </p:nvSpPr>
          <p:spPr>
            <a:xfrm>
              <a:off x="4446360" y="5192640"/>
              <a:ext cx="268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63" name="PlaceHolder 1"/>
          <p:cNvSpPr>
            <a:spLocks noGrp="1"/>
          </p:cNvSpPr>
          <p:nvPr>
            <p:ph/>
          </p:nvPr>
        </p:nvSpPr>
        <p:spPr>
          <a:xfrm>
            <a:off x="306000" y="59040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phosphorylation cascade</a:t>
            </a: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64" name="Text Box 139"/>
          <p:cNvSpPr/>
          <p:nvPr/>
        </p:nvSpPr>
        <p:spPr>
          <a:xfrm>
            <a:off x="477360" y="624816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igure 11.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65" name="Group 294"/>
          <p:cNvGrpSpPr/>
          <p:nvPr/>
        </p:nvGrpSpPr>
        <p:grpSpPr>
          <a:xfrm>
            <a:off x="3803400" y="2103120"/>
            <a:ext cx="2527920" cy="708480"/>
            <a:chOff x="3803400" y="2103120"/>
            <a:chExt cx="2527920" cy="708480"/>
          </a:xfrm>
        </p:grpSpPr>
        <p:grpSp>
          <p:nvGrpSpPr>
            <p:cNvPr id="1566" name="Group 247"/>
            <p:cNvGrpSpPr/>
            <p:nvPr/>
          </p:nvGrpSpPr>
          <p:grpSpPr>
            <a:xfrm>
              <a:off x="4684680" y="2103120"/>
              <a:ext cx="1646640" cy="416520"/>
              <a:chOff x="4684680" y="2103120"/>
              <a:chExt cx="1646640" cy="416520"/>
            </a:xfrm>
          </p:grpSpPr>
          <p:sp>
            <p:nvSpPr>
              <p:cNvPr id="1567" name="Text Box 248"/>
              <p:cNvSpPr/>
              <p:nvPr/>
            </p:nvSpPr>
            <p:spPr>
              <a:xfrm>
                <a:off x="4684680" y="2122560"/>
                <a:ext cx="16466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A relay molecule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activates protein kinase 1.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568" name="Group 249"/>
              <p:cNvGrpSpPr/>
              <p:nvPr/>
            </p:nvGrpSpPr>
            <p:grpSpPr>
              <a:xfrm>
                <a:off x="4771440" y="2103120"/>
                <a:ext cx="270360" cy="275040"/>
                <a:chOff x="4771440" y="2103120"/>
                <a:chExt cx="270360" cy="275040"/>
              </a:xfrm>
            </p:grpSpPr>
            <p:sp>
              <p:nvSpPr>
                <p:cNvPr id="1569" name="AutoShape 250"/>
                <p:cNvSpPr/>
                <p:nvPr/>
              </p:nvSpPr>
              <p:spPr>
                <a:xfrm>
                  <a:off x="4819680" y="2152080"/>
                  <a:ext cx="168120" cy="16704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0" name="Text Box 251"/>
                <p:cNvSpPr/>
                <p:nvPr/>
              </p:nvSpPr>
              <p:spPr>
                <a:xfrm>
                  <a:off x="4771440" y="21031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1" name="Line 267"/>
            <p:cNvSpPr/>
            <p:nvPr/>
          </p:nvSpPr>
          <p:spPr>
            <a:xfrm>
              <a:off x="4713120" y="2143080"/>
              <a:ext cx="0" cy="2923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72" name="Line 268"/>
            <p:cNvSpPr/>
            <p:nvPr/>
          </p:nvSpPr>
          <p:spPr>
            <a:xfrm flipH="1">
              <a:off x="3803400" y="2289240"/>
              <a:ext cx="896760" cy="5223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73" name="Group 338"/>
          <p:cNvGrpSpPr/>
          <p:nvPr/>
        </p:nvGrpSpPr>
        <p:grpSpPr>
          <a:xfrm>
            <a:off x="4785840" y="2782800"/>
            <a:ext cx="2413800" cy="936720"/>
            <a:chOff x="4785840" y="2782800"/>
            <a:chExt cx="2413800" cy="936720"/>
          </a:xfrm>
        </p:grpSpPr>
        <p:grpSp>
          <p:nvGrpSpPr>
            <p:cNvPr id="1574" name="Group 254"/>
            <p:cNvGrpSpPr/>
            <p:nvPr/>
          </p:nvGrpSpPr>
          <p:grpSpPr>
            <a:xfrm>
              <a:off x="5263920" y="2782800"/>
              <a:ext cx="262800" cy="259920"/>
              <a:chOff x="5263920" y="2782800"/>
              <a:chExt cx="262800" cy="259920"/>
            </a:xfrm>
          </p:grpSpPr>
          <p:sp>
            <p:nvSpPr>
              <p:cNvPr id="1575" name="AutoShape 255"/>
              <p:cNvSpPr/>
              <p:nvPr/>
            </p:nvSpPr>
            <p:spPr>
              <a:xfrm>
                <a:off x="5302800" y="2814840"/>
                <a:ext cx="168840" cy="16632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76" name="Text Box 256"/>
              <p:cNvSpPr/>
              <p:nvPr/>
            </p:nvSpPr>
            <p:spPr>
              <a:xfrm>
                <a:off x="5263920" y="2782800"/>
                <a:ext cx="2628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77" name="Group 295"/>
            <p:cNvGrpSpPr/>
            <p:nvPr/>
          </p:nvGrpSpPr>
          <p:grpSpPr>
            <a:xfrm>
              <a:off x="4785840" y="2793960"/>
              <a:ext cx="2413800" cy="925560"/>
              <a:chOff x="4785840" y="2793960"/>
              <a:chExt cx="2413800" cy="925560"/>
            </a:xfrm>
          </p:grpSpPr>
          <p:sp>
            <p:nvSpPr>
              <p:cNvPr id="1578" name="Text Box 253"/>
              <p:cNvSpPr/>
              <p:nvPr/>
            </p:nvSpPr>
            <p:spPr>
              <a:xfrm>
                <a:off x="5222520" y="2793960"/>
                <a:ext cx="19771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Active protein kinase 1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transfers a phosphate from ATP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to an inactive molecule of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protein kinase 2, thus activating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this second kinase.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79" name="Line 269"/>
              <p:cNvSpPr/>
              <p:nvPr/>
            </p:nvSpPr>
            <p:spPr>
              <a:xfrm>
                <a:off x="5203800" y="2840040"/>
                <a:ext cx="0" cy="65880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80" name="Line 270"/>
              <p:cNvSpPr/>
              <p:nvPr/>
            </p:nvSpPr>
            <p:spPr>
              <a:xfrm flipH="1">
                <a:off x="4785840" y="3121200"/>
                <a:ext cx="406440" cy="59832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1581" name="Group 296"/>
          <p:cNvGrpSpPr/>
          <p:nvPr/>
        </p:nvGrpSpPr>
        <p:grpSpPr>
          <a:xfrm>
            <a:off x="5609880" y="3822120"/>
            <a:ext cx="2333520" cy="815040"/>
            <a:chOff x="5609880" y="3822120"/>
            <a:chExt cx="2333520" cy="815040"/>
          </a:xfrm>
        </p:grpSpPr>
        <p:grpSp>
          <p:nvGrpSpPr>
            <p:cNvPr id="1582" name="Group 257"/>
            <p:cNvGrpSpPr/>
            <p:nvPr/>
          </p:nvGrpSpPr>
          <p:grpSpPr>
            <a:xfrm>
              <a:off x="6101640" y="3822120"/>
              <a:ext cx="1841760" cy="717480"/>
              <a:chOff x="6101640" y="3822120"/>
              <a:chExt cx="1841760" cy="717480"/>
            </a:xfrm>
          </p:grpSpPr>
          <p:sp>
            <p:nvSpPr>
              <p:cNvPr id="1583" name="Text Box 258"/>
              <p:cNvSpPr/>
              <p:nvPr/>
            </p:nvSpPr>
            <p:spPr>
              <a:xfrm>
                <a:off x="6101640" y="3837960"/>
                <a:ext cx="184176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      </a:t>
                </a: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Active protein kinase 2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then catalyzes the phos-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phorylation (and activation) of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protein kinase 3.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584" name="Group 259"/>
              <p:cNvGrpSpPr/>
              <p:nvPr/>
            </p:nvGrpSpPr>
            <p:grpSpPr>
              <a:xfrm>
                <a:off x="6137640" y="3822120"/>
                <a:ext cx="270360" cy="275040"/>
                <a:chOff x="6137640" y="3822120"/>
                <a:chExt cx="270360" cy="275040"/>
              </a:xfrm>
            </p:grpSpPr>
            <p:sp>
              <p:nvSpPr>
                <p:cNvPr id="1585" name="AutoShape 260"/>
                <p:cNvSpPr/>
                <p:nvPr/>
              </p:nvSpPr>
              <p:spPr>
                <a:xfrm>
                  <a:off x="6184440" y="3871800"/>
                  <a:ext cx="167760" cy="16812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6" name="Text Box 261"/>
                <p:cNvSpPr/>
                <p:nvPr/>
              </p:nvSpPr>
              <p:spPr>
                <a:xfrm>
                  <a:off x="6137640" y="382212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7" name="Line 271"/>
            <p:cNvSpPr/>
            <p:nvPr/>
          </p:nvSpPr>
          <p:spPr>
            <a:xfrm>
              <a:off x="6087960" y="3878280"/>
              <a:ext cx="0" cy="6476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88" name="Line 272"/>
            <p:cNvSpPr/>
            <p:nvPr/>
          </p:nvSpPr>
          <p:spPr>
            <a:xfrm flipH="1">
              <a:off x="5609880" y="4159080"/>
              <a:ext cx="477720" cy="4780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89" name="Group 297"/>
          <p:cNvGrpSpPr/>
          <p:nvPr/>
        </p:nvGrpSpPr>
        <p:grpSpPr>
          <a:xfrm>
            <a:off x="6408360" y="4791240"/>
            <a:ext cx="2015280" cy="853920"/>
            <a:chOff x="6408360" y="4791240"/>
            <a:chExt cx="2015280" cy="853920"/>
          </a:xfrm>
        </p:grpSpPr>
        <p:grpSp>
          <p:nvGrpSpPr>
            <p:cNvPr id="1590" name="Group 262"/>
            <p:cNvGrpSpPr/>
            <p:nvPr/>
          </p:nvGrpSpPr>
          <p:grpSpPr>
            <a:xfrm>
              <a:off x="6701040" y="4791240"/>
              <a:ext cx="1722600" cy="853920"/>
              <a:chOff x="6701040" y="4791240"/>
              <a:chExt cx="1722600" cy="853920"/>
            </a:xfrm>
          </p:grpSpPr>
          <p:sp>
            <p:nvSpPr>
              <p:cNvPr id="1591" name="Text Box 263"/>
              <p:cNvSpPr/>
              <p:nvPr/>
            </p:nvSpPr>
            <p:spPr>
              <a:xfrm>
                <a:off x="6701040" y="4791240"/>
                <a:ext cx="172260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      </a:t>
                </a: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Finally, active protein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kinase 3 phosphorylates a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protein (pink) that brings 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about the cell’s response to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Arial"/>
                  </a:rPr>
                  <a:t>the signal.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592" name="Group 264"/>
              <p:cNvGrpSpPr/>
              <p:nvPr/>
            </p:nvGrpSpPr>
            <p:grpSpPr>
              <a:xfrm>
                <a:off x="6724440" y="4795560"/>
                <a:ext cx="270360" cy="275040"/>
                <a:chOff x="6724440" y="4795560"/>
                <a:chExt cx="270360" cy="275040"/>
              </a:xfrm>
            </p:grpSpPr>
            <p:sp>
              <p:nvSpPr>
                <p:cNvPr id="1593" name="AutoShape 265"/>
                <p:cNvSpPr/>
                <p:nvPr/>
              </p:nvSpPr>
              <p:spPr>
                <a:xfrm>
                  <a:off x="6778800" y="4846680"/>
                  <a:ext cx="168120" cy="16776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4" name="Text Box 266"/>
                <p:cNvSpPr/>
                <p:nvPr/>
              </p:nvSpPr>
              <p:spPr>
                <a:xfrm>
                  <a:off x="6724440" y="47955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5" name="Line 273"/>
            <p:cNvSpPr/>
            <p:nvPr/>
          </p:nvSpPr>
          <p:spPr>
            <a:xfrm>
              <a:off x="6691320" y="4881600"/>
              <a:ext cx="0" cy="6476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96" name="Line 274"/>
            <p:cNvSpPr/>
            <p:nvPr/>
          </p:nvSpPr>
          <p:spPr>
            <a:xfrm flipH="1">
              <a:off x="6408360" y="5129280"/>
              <a:ext cx="282600" cy="4111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97" name="Group 339"/>
          <p:cNvGrpSpPr/>
          <p:nvPr/>
        </p:nvGrpSpPr>
        <p:grpSpPr>
          <a:xfrm>
            <a:off x="1837440" y="4379760"/>
            <a:ext cx="2137680" cy="1782360"/>
            <a:chOff x="1837440" y="4379760"/>
            <a:chExt cx="2137680" cy="1782360"/>
          </a:xfrm>
        </p:grpSpPr>
        <p:sp>
          <p:nvSpPr>
            <p:cNvPr id="1598" name="Line 281"/>
            <p:cNvSpPr/>
            <p:nvPr/>
          </p:nvSpPr>
          <p:spPr>
            <a:xfrm>
              <a:off x="1911240" y="5003640"/>
              <a:ext cx="154800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99" name="Group 293"/>
            <p:cNvGrpSpPr/>
            <p:nvPr/>
          </p:nvGrpSpPr>
          <p:grpSpPr>
            <a:xfrm>
              <a:off x="1837440" y="4379760"/>
              <a:ext cx="2137680" cy="1782360"/>
              <a:chOff x="1837440" y="4379760"/>
              <a:chExt cx="2137680" cy="1782360"/>
            </a:xfrm>
          </p:grpSpPr>
          <p:grpSp>
            <p:nvGrpSpPr>
              <p:cNvPr id="1600" name="Group 276"/>
              <p:cNvGrpSpPr/>
              <p:nvPr/>
            </p:nvGrpSpPr>
            <p:grpSpPr>
              <a:xfrm>
                <a:off x="1837440" y="5001840"/>
                <a:ext cx="1736640" cy="1160280"/>
                <a:chOff x="1837440" y="5001840"/>
                <a:chExt cx="1736640" cy="1160280"/>
              </a:xfrm>
            </p:grpSpPr>
            <p:sp>
              <p:nvSpPr>
                <p:cNvPr id="1601" name="Text Box 277"/>
                <p:cNvSpPr/>
                <p:nvPr/>
              </p:nvSpPr>
              <p:spPr>
                <a:xfrm>
                  <a:off x="1837440" y="5003640"/>
                  <a:ext cx="1736640" cy="115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       </a:t>
                  </a: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Enzymes called protein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phosphatases (PP)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catalyze the removal of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the phosphate groups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from the proteins, 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making them inactive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0458c"/>
                      </a:solidFill>
                      <a:latin typeface="Arial"/>
                    </a:rPr>
                    <a:t>and available for reuse.</a:t>
                  </a:r>
                  <a:endParaRPr b="0" lang="en-US" sz="1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grpSp>
              <p:nvGrpSpPr>
                <p:cNvPr id="1602" name="Group 278"/>
                <p:cNvGrpSpPr/>
                <p:nvPr/>
              </p:nvGrpSpPr>
              <p:grpSpPr>
                <a:xfrm>
                  <a:off x="1871640" y="5001840"/>
                  <a:ext cx="270360" cy="275040"/>
                  <a:chOff x="1871640" y="5001840"/>
                  <a:chExt cx="270360" cy="275040"/>
                </a:xfrm>
              </p:grpSpPr>
              <p:sp>
                <p:nvSpPr>
                  <p:cNvPr id="1603" name="AutoShape 279"/>
                  <p:cNvSpPr/>
                  <p:nvPr/>
                </p:nvSpPr>
                <p:spPr>
                  <a:xfrm>
                    <a:off x="1918440" y="5050800"/>
                    <a:ext cx="167760" cy="167040"/>
                  </a:xfrm>
                  <a:prstGeom prst="flowChartConnector">
                    <a:avLst/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Text Box 280"/>
                  <p:cNvSpPr/>
                  <p:nvPr/>
                </p:nvSpPr>
                <p:spPr>
                  <a:xfrm>
                    <a:off x="1871640" y="500184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5</a:t>
                    </a:r>
                    <a:endParaRPr b="0" lang="en-US" sz="12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05" name="Line 282"/>
              <p:cNvSpPr/>
              <p:nvPr/>
            </p:nvSpPr>
            <p:spPr>
              <a:xfrm flipV="1">
                <a:off x="2738520" y="4379760"/>
                <a:ext cx="1236600" cy="61920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6" name="Picture 4" descr="07_10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5370480"/>
          </a:xfrm>
          <a:prstGeom prst="rect">
            <a:avLst/>
          </a:prstGeom>
          <a:ln w="0">
            <a:noFill/>
          </a:ln>
        </p:spPr>
      </p:pic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332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enefits of a 2° messenger syste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76320" y="4905360"/>
            <a:ext cx="274320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mplification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609" name="Rectangle 9"/>
          <p:cNvSpPr/>
          <p:nvPr/>
        </p:nvSpPr>
        <p:spPr>
          <a:xfrm>
            <a:off x="1318320" y="1670040"/>
            <a:ext cx="5158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0" name="Rectangle 10"/>
          <p:cNvSpPr/>
          <p:nvPr/>
        </p:nvSpPr>
        <p:spPr>
          <a:xfrm>
            <a:off x="279000" y="2035080"/>
            <a:ext cx="136764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ptor protei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1" name="Rectangle 11"/>
          <p:cNvSpPr/>
          <p:nvPr/>
        </p:nvSpPr>
        <p:spPr>
          <a:xfrm>
            <a:off x="4644360" y="1905120"/>
            <a:ext cx="226080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ated adenylyl cyclase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2" name="Rectangle 12"/>
          <p:cNvSpPr/>
          <p:nvPr/>
        </p:nvSpPr>
        <p:spPr>
          <a:xfrm>
            <a:off x="1575000" y="3132000"/>
            <a:ext cx="1192320" cy="181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ficatio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3" name="Rectangle 13"/>
          <p:cNvSpPr/>
          <p:nvPr/>
        </p:nvSpPr>
        <p:spPr>
          <a:xfrm>
            <a:off x="5708160" y="3603600"/>
            <a:ext cx="1466640" cy="181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ficatio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4" name="Rectangle 14"/>
          <p:cNvSpPr/>
          <p:nvPr/>
        </p:nvSpPr>
        <p:spPr>
          <a:xfrm>
            <a:off x="5106240" y="4784760"/>
            <a:ext cx="1466640" cy="181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ficatio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5" name="Rectangle 15"/>
          <p:cNvSpPr/>
          <p:nvPr/>
        </p:nvSpPr>
        <p:spPr>
          <a:xfrm>
            <a:off x="4399920" y="5807160"/>
            <a:ext cx="1466640" cy="181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ficatio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6" name="Rectangle 16"/>
          <p:cNvSpPr/>
          <p:nvPr/>
        </p:nvSpPr>
        <p:spPr>
          <a:xfrm>
            <a:off x="1904400" y="4495680"/>
            <a:ext cx="3664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T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7" name="Rectangle 17"/>
          <p:cNvSpPr/>
          <p:nvPr/>
        </p:nvSpPr>
        <p:spPr>
          <a:xfrm>
            <a:off x="2665800" y="4495680"/>
            <a:ext cx="7930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 protei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8" name="Rectangle 25"/>
          <p:cNvSpPr/>
          <p:nvPr/>
        </p:nvSpPr>
        <p:spPr>
          <a:xfrm>
            <a:off x="5551560" y="6469200"/>
            <a:ext cx="66204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19" name="Rectangle 26"/>
          <p:cNvSpPr/>
          <p:nvPr/>
        </p:nvSpPr>
        <p:spPr>
          <a:xfrm>
            <a:off x="6333120" y="5410080"/>
            <a:ext cx="6544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zyme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0" name="Rectangle 27"/>
          <p:cNvSpPr/>
          <p:nvPr/>
        </p:nvSpPr>
        <p:spPr>
          <a:xfrm>
            <a:off x="6858000" y="4495680"/>
            <a:ext cx="12952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in kinase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1" name="Rectangle 28"/>
          <p:cNvSpPr/>
          <p:nvPr/>
        </p:nvSpPr>
        <p:spPr>
          <a:xfrm>
            <a:off x="6857640" y="4038480"/>
            <a:ext cx="49464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2" name="Rectangle 34"/>
          <p:cNvSpPr/>
          <p:nvPr/>
        </p:nvSpPr>
        <p:spPr>
          <a:xfrm>
            <a:off x="7695360" y="3048120"/>
            <a:ext cx="773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yet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ated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3" name="Oval 36"/>
          <p:cNvSpPr/>
          <p:nvPr/>
        </p:nvSpPr>
        <p:spPr>
          <a:xfrm>
            <a:off x="1979640" y="1603440"/>
            <a:ext cx="342720" cy="34272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4" name="Oval 37"/>
          <p:cNvSpPr/>
          <p:nvPr/>
        </p:nvSpPr>
        <p:spPr>
          <a:xfrm>
            <a:off x="1181160" y="3049560"/>
            <a:ext cx="342720" cy="34308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5" name="Oval 38"/>
          <p:cNvSpPr/>
          <p:nvPr/>
        </p:nvSpPr>
        <p:spPr>
          <a:xfrm>
            <a:off x="5316480" y="3514680"/>
            <a:ext cx="343080" cy="34308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6" name="Oval 39"/>
          <p:cNvSpPr/>
          <p:nvPr/>
        </p:nvSpPr>
        <p:spPr>
          <a:xfrm>
            <a:off x="3133800" y="3971880"/>
            <a:ext cx="342720" cy="34308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7" name="Oval 40"/>
          <p:cNvSpPr/>
          <p:nvPr/>
        </p:nvSpPr>
        <p:spPr>
          <a:xfrm>
            <a:off x="5081760" y="4173480"/>
            <a:ext cx="342720" cy="34308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8" name="Oval 41"/>
          <p:cNvSpPr/>
          <p:nvPr/>
        </p:nvSpPr>
        <p:spPr>
          <a:xfrm>
            <a:off x="4740120" y="4691160"/>
            <a:ext cx="343080" cy="34272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29" name="Oval 42"/>
          <p:cNvSpPr/>
          <p:nvPr/>
        </p:nvSpPr>
        <p:spPr>
          <a:xfrm>
            <a:off x="4033800" y="5724360"/>
            <a:ext cx="343080" cy="343080"/>
          </a:xfrm>
          <a:prstGeom prst="ellipse">
            <a:avLst/>
          </a:prstGeom>
          <a:solidFill>
            <a:srgbClr val="ffea18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0" name="Rectangle 43"/>
          <p:cNvSpPr/>
          <p:nvPr/>
        </p:nvSpPr>
        <p:spPr>
          <a:xfrm>
            <a:off x="76320" y="6262560"/>
            <a:ext cx="320652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S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sponse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1" name="Rectangle 45"/>
          <p:cNvSpPr/>
          <p:nvPr/>
        </p:nvSpPr>
        <p:spPr>
          <a:xfrm>
            <a:off x="3483000" y="4219560"/>
            <a:ext cx="1192320" cy="181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ficatio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2" name="Rectangle 3"/>
          <p:cNvSpPr/>
          <p:nvPr/>
        </p:nvSpPr>
        <p:spPr>
          <a:xfrm>
            <a:off x="76320" y="5594400"/>
            <a:ext cx="373356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scade multiplier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3" name="TextBox 1"/>
          <p:cNvSpPr/>
          <p:nvPr/>
        </p:nvSpPr>
        <p:spPr>
          <a:xfrm>
            <a:off x="7104240" y="59878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2"/>
              </a:rPr>
              <a:t>VIDE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663120" y="685800"/>
            <a:ext cx="85345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Pathways can also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gulate genes 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by activating transcription factors that turn genes on or off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635" name="Group 26"/>
          <p:cNvGrpSpPr/>
          <p:nvPr/>
        </p:nvGrpSpPr>
        <p:grpSpPr>
          <a:xfrm>
            <a:off x="2321640" y="2423520"/>
            <a:ext cx="6087600" cy="4173840"/>
            <a:chOff x="2321640" y="2423520"/>
            <a:chExt cx="6087600" cy="4173840"/>
          </a:xfrm>
        </p:grpSpPr>
        <p:grpSp>
          <p:nvGrpSpPr>
            <p:cNvPr id="1636" name="Group 4"/>
            <p:cNvGrpSpPr/>
            <p:nvPr/>
          </p:nvGrpSpPr>
          <p:grpSpPr>
            <a:xfrm>
              <a:off x="2321640" y="2423520"/>
              <a:ext cx="4284360" cy="4173840"/>
              <a:chOff x="2321640" y="2423520"/>
              <a:chExt cx="4284360" cy="4173840"/>
            </a:xfrm>
          </p:grpSpPr>
          <p:grpSp>
            <p:nvGrpSpPr>
              <p:cNvPr id="1637" name="Group 5"/>
              <p:cNvGrpSpPr/>
              <p:nvPr/>
            </p:nvGrpSpPr>
            <p:grpSpPr>
              <a:xfrm>
                <a:off x="2321640" y="2459160"/>
                <a:ext cx="4284360" cy="4138200"/>
                <a:chOff x="2321640" y="2459160"/>
                <a:chExt cx="4284360" cy="4138200"/>
              </a:xfrm>
            </p:grpSpPr>
            <p:pic>
              <p:nvPicPr>
                <p:cNvPr id="1638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21640" y="2459160"/>
                  <a:ext cx="4284360" cy="413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9" name="Text Box 7"/>
                <p:cNvSpPr/>
                <p:nvPr/>
              </p:nvSpPr>
              <p:spPr>
                <a:xfrm>
                  <a:off x="5552640" y="2487240"/>
                  <a:ext cx="88452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Reception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0" name="Text Box 8"/>
                <p:cNvSpPr/>
                <p:nvPr/>
              </p:nvSpPr>
              <p:spPr>
                <a:xfrm>
                  <a:off x="5317920" y="3700080"/>
                  <a:ext cx="111024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ransduction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1" name="Text Box 9"/>
                <p:cNvSpPr/>
                <p:nvPr/>
              </p:nvSpPr>
              <p:spPr>
                <a:xfrm>
                  <a:off x="5519880" y="5257080"/>
                  <a:ext cx="84960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Response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2" name="Text Box 10"/>
                <p:cNvSpPr/>
                <p:nvPr/>
              </p:nvSpPr>
              <p:spPr>
                <a:xfrm>
                  <a:off x="4281120" y="6238440"/>
                  <a:ext cx="6361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mRNA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3" name="Text Box 11"/>
                <p:cNvSpPr/>
                <p:nvPr/>
              </p:nvSpPr>
              <p:spPr>
                <a:xfrm>
                  <a:off x="2489400" y="6258600"/>
                  <a:ext cx="8679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NUCLEUS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4" name="Text Box 12"/>
                <p:cNvSpPr/>
                <p:nvPr/>
              </p:nvSpPr>
              <p:spPr>
                <a:xfrm>
                  <a:off x="5308920" y="5830560"/>
                  <a:ext cx="5616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Gene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5" name="Text Box 13"/>
                <p:cNvSpPr/>
                <p:nvPr/>
              </p:nvSpPr>
              <p:spPr>
                <a:xfrm>
                  <a:off x="4670280" y="533700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P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6" name="Text Box 14"/>
                <p:cNvSpPr/>
                <p:nvPr/>
              </p:nvSpPr>
              <p:spPr>
                <a:xfrm>
                  <a:off x="3834360" y="4955040"/>
                  <a:ext cx="1107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Active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transcription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factor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7" name="Text Box 15"/>
                <p:cNvSpPr/>
                <p:nvPr/>
              </p:nvSpPr>
              <p:spPr>
                <a:xfrm>
                  <a:off x="2803680" y="4788720"/>
                  <a:ext cx="1107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Inactive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transcription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factor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8" name="Line 16"/>
                <p:cNvSpPr/>
                <p:nvPr/>
              </p:nvSpPr>
              <p:spPr>
                <a:xfrm flipH="1">
                  <a:off x="3418560" y="4917600"/>
                  <a:ext cx="284040" cy="11772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9" name="Line 17"/>
                <p:cNvSpPr/>
                <p:nvPr/>
              </p:nvSpPr>
              <p:spPr>
                <a:xfrm>
                  <a:off x="4721760" y="5282640"/>
                  <a:ext cx="416520" cy="10728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0" name="Text Box 18"/>
                <p:cNvSpPr/>
                <p:nvPr/>
              </p:nvSpPr>
              <p:spPr>
                <a:xfrm>
                  <a:off x="2496240" y="5570280"/>
                  <a:ext cx="509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DNA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1" name="Text Box 19"/>
                <p:cNvSpPr/>
                <p:nvPr/>
              </p:nvSpPr>
              <p:spPr>
                <a:xfrm>
                  <a:off x="4192920" y="3429360"/>
                  <a:ext cx="1273320" cy="42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Phosphorylation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cascade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2" name="Text Box 20"/>
                <p:cNvSpPr/>
                <p:nvPr/>
              </p:nvSpPr>
              <p:spPr>
                <a:xfrm>
                  <a:off x="2430000" y="4187160"/>
                  <a:ext cx="10645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CYTOPLASM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3" name="Text Box 21"/>
                <p:cNvSpPr/>
                <p:nvPr/>
              </p:nvSpPr>
              <p:spPr>
                <a:xfrm>
                  <a:off x="4206240" y="2652840"/>
                  <a:ext cx="828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Comic Sans MS"/>
                    </a:rPr>
                    <a:t>Receptor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4" name="Line 22"/>
                <p:cNvSpPr/>
                <p:nvPr/>
              </p:nvSpPr>
              <p:spPr>
                <a:xfrm flipV="1">
                  <a:off x="3761640" y="2554200"/>
                  <a:ext cx="325080" cy="5040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4680" bIns="46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5" name="Line 23"/>
                <p:cNvSpPr/>
                <p:nvPr/>
              </p:nvSpPr>
              <p:spPr>
                <a:xfrm flipV="1">
                  <a:off x="3877560" y="2775960"/>
                  <a:ext cx="325080" cy="5040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4680" bIns="46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Text Box 24"/>
              <p:cNvSpPr/>
              <p:nvPr/>
            </p:nvSpPr>
            <p:spPr>
              <a:xfrm>
                <a:off x="4135320" y="2423520"/>
                <a:ext cx="1181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Comic Sans MS"/>
                  </a:rPr>
                  <a:t>Growth factor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657" name="Text Box 25"/>
            <p:cNvSpPr/>
            <p:nvPr/>
          </p:nvSpPr>
          <p:spPr>
            <a:xfrm>
              <a:off x="7151400" y="5547600"/>
              <a:ext cx="1257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Figure 11.14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 txBox="1"/>
          <p:nvPr/>
        </p:nvSpPr>
        <p:spPr>
          <a:xfrm>
            <a:off x="685800" y="1447560"/>
            <a:ext cx="784872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There are three main types of plasma membrane receptors:</a:t>
            </a: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G-protein-linked</a:t>
            </a:r>
            <a:endParaRPr b="1" lang="en-US" sz="3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Tyrosine kinases</a:t>
            </a:r>
            <a:endParaRPr b="1" lang="en-US" sz="3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Ion channel</a:t>
            </a:r>
            <a:endParaRPr b="1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Types of Receptors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  <a:ea typeface="Arabic Typesetting"/>
              </a:rPr>
              <a:t>G-protein-linked receptors</a:t>
            </a:r>
            <a:br>
              <a:rPr sz="3600"/>
            </a:b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694"/>
                </a:solidFill>
                <a:latin typeface="Arial"/>
              </a:rPr>
              <a:t>Very commo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694"/>
                </a:solidFill>
                <a:latin typeface="Arial"/>
              </a:rPr>
              <a:t>Results in a </a:t>
            </a:r>
            <a:r>
              <a:rPr b="1" i="1" lang="en-US" sz="3200" spc="-1" strike="noStrike">
                <a:solidFill>
                  <a:srgbClr val="ff0aff"/>
                </a:solidFill>
                <a:latin typeface="Arial"/>
              </a:rPr>
              <a:t>single pathway response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662" name="Group 36"/>
          <p:cNvGrpSpPr/>
          <p:nvPr/>
        </p:nvGrpSpPr>
        <p:grpSpPr>
          <a:xfrm>
            <a:off x="685800" y="1593720"/>
            <a:ext cx="8070840" cy="4908600"/>
            <a:chOff x="685800" y="1593720"/>
            <a:chExt cx="8070840" cy="4908600"/>
          </a:xfrm>
        </p:grpSpPr>
        <p:pic>
          <p:nvPicPr>
            <p:cNvPr id="1663" name="Picture 6" descr=""/>
            <p:cNvPicPr/>
            <p:nvPr/>
          </p:nvPicPr>
          <p:blipFill>
            <a:blip r:embed="rId1"/>
            <a:srcRect l="0" t="31838" r="0" b="0"/>
            <a:stretch/>
          </p:blipFill>
          <p:spPr>
            <a:xfrm>
              <a:off x="685800" y="2919240"/>
              <a:ext cx="7989120" cy="35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Text Box 7"/>
            <p:cNvSpPr/>
            <p:nvPr/>
          </p:nvSpPr>
          <p:spPr>
            <a:xfrm>
              <a:off x="5730840" y="1593720"/>
              <a:ext cx="201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65" name="Text Box 8"/>
            <p:cNvSpPr/>
            <p:nvPr/>
          </p:nvSpPr>
          <p:spPr>
            <a:xfrm>
              <a:off x="939600" y="3169080"/>
              <a:ext cx="1352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-protein-linked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ceptor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66" name="Text Box 9"/>
            <p:cNvSpPr/>
            <p:nvPr/>
          </p:nvSpPr>
          <p:spPr>
            <a:xfrm>
              <a:off x="2573280" y="3252600"/>
              <a:ext cx="153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Plasma Membran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67" name="Text Box 10"/>
            <p:cNvSpPr/>
            <p:nvPr/>
          </p:nvSpPr>
          <p:spPr>
            <a:xfrm>
              <a:off x="3681000" y="4269960"/>
              <a:ext cx="74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68" name="Text Box 11"/>
            <p:cNvSpPr/>
            <p:nvPr/>
          </p:nvSpPr>
          <p:spPr>
            <a:xfrm>
              <a:off x="2603160" y="4140720"/>
              <a:ext cx="869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-protein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(inactive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69" name="Text Box 12"/>
            <p:cNvSpPr/>
            <p:nvPr/>
          </p:nvSpPr>
          <p:spPr>
            <a:xfrm>
              <a:off x="983880" y="4265280"/>
              <a:ext cx="106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CYTOPLASM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0" name="Text Box 13"/>
            <p:cNvSpPr/>
            <p:nvPr/>
          </p:nvSpPr>
          <p:spPr>
            <a:xfrm>
              <a:off x="3407760" y="6195960"/>
              <a:ext cx="1215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Cellular respon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1" name="Text Box 14"/>
            <p:cNvSpPr/>
            <p:nvPr/>
          </p:nvSpPr>
          <p:spPr>
            <a:xfrm>
              <a:off x="3632760" y="4844880"/>
              <a:ext cx="735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Activate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enzym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2" name="Text Box 15"/>
            <p:cNvSpPr/>
            <p:nvPr/>
          </p:nvSpPr>
          <p:spPr>
            <a:xfrm>
              <a:off x="5037840" y="3151800"/>
              <a:ext cx="8481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Activated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ceptor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3" name="Text Box 16"/>
            <p:cNvSpPr/>
            <p:nvPr/>
          </p:nvSpPr>
          <p:spPr>
            <a:xfrm>
              <a:off x="6076080" y="3215880"/>
              <a:ext cx="1315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Signal molecul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4" name="Text Box 17"/>
            <p:cNvSpPr/>
            <p:nvPr/>
          </p:nvSpPr>
          <p:spPr>
            <a:xfrm>
              <a:off x="7868880" y="3132720"/>
              <a:ext cx="887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nacti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5" name="Text Box 19"/>
            <p:cNvSpPr/>
            <p:nvPr/>
          </p:nvSpPr>
          <p:spPr>
            <a:xfrm>
              <a:off x="5448240" y="418608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GD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6" name="Text Box 20"/>
            <p:cNvSpPr/>
            <p:nvPr/>
          </p:nvSpPr>
          <p:spPr>
            <a:xfrm>
              <a:off x="6300360" y="568152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GD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7" name="Text Box 21"/>
            <p:cNvSpPr/>
            <p:nvPr/>
          </p:nvSpPr>
          <p:spPr>
            <a:xfrm>
              <a:off x="6313680" y="4182840"/>
              <a:ext cx="422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GT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8" name="Text Box 22"/>
            <p:cNvSpPr/>
            <p:nvPr/>
          </p:nvSpPr>
          <p:spPr>
            <a:xfrm>
              <a:off x="3174120" y="5611680"/>
              <a:ext cx="422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GT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79" name="Line 23"/>
            <p:cNvSpPr/>
            <p:nvPr/>
          </p:nvSpPr>
          <p:spPr>
            <a:xfrm>
              <a:off x="1251720" y="3581280"/>
              <a:ext cx="0" cy="2145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0" name="Line 24"/>
            <p:cNvSpPr/>
            <p:nvPr/>
          </p:nvSpPr>
          <p:spPr>
            <a:xfrm>
              <a:off x="3233160" y="3465360"/>
              <a:ext cx="0" cy="1350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1" name="Line 25"/>
            <p:cNvSpPr/>
            <p:nvPr/>
          </p:nvSpPr>
          <p:spPr>
            <a:xfrm>
              <a:off x="2874600" y="4108320"/>
              <a:ext cx="0" cy="1191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2" name="Line 26"/>
            <p:cNvSpPr/>
            <p:nvPr/>
          </p:nvSpPr>
          <p:spPr>
            <a:xfrm>
              <a:off x="5363280" y="3605040"/>
              <a:ext cx="248040" cy="1429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3" name="Line 27"/>
            <p:cNvSpPr/>
            <p:nvPr/>
          </p:nvSpPr>
          <p:spPr>
            <a:xfrm flipV="1">
              <a:off x="5860080" y="3462480"/>
              <a:ext cx="414000" cy="712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4" name="Line 28"/>
            <p:cNvSpPr/>
            <p:nvPr/>
          </p:nvSpPr>
          <p:spPr>
            <a:xfrm>
              <a:off x="4038840" y="5176800"/>
              <a:ext cx="0" cy="1364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5" name="Text Box 29"/>
            <p:cNvSpPr/>
            <p:nvPr/>
          </p:nvSpPr>
          <p:spPr>
            <a:xfrm>
              <a:off x="7066800" y="5859000"/>
              <a:ext cx="29052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r>
                <a:rPr b="0" lang="en-US" sz="6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0" lang="en-US" sz="900" spc="-1" strike="noStrike" baseline="-25000">
                  <a:solidFill>
                    <a:srgbClr val="40458c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6" name="Line 30"/>
            <p:cNvSpPr/>
            <p:nvPr/>
          </p:nvSpPr>
          <p:spPr>
            <a:xfrm>
              <a:off x="8111160" y="3524400"/>
              <a:ext cx="0" cy="1047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87" name="Rectangle 35"/>
            <p:cNvSpPr/>
            <p:nvPr/>
          </p:nvSpPr>
          <p:spPr>
            <a:xfrm>
              <a:off x="2234880" y="3995640"/>
              <a:ext cx="445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GDP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Receptor tyrosine kinases</a:t>
            </a:r>
            <a:br>
              <a:rPr sz="3600"/>
            </a:b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762120" y="1275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aff"/>
                </a:solidFill>
                <a:latin typeface="Arial"/>
              </a:rPr>
              <a:t>Multiple pathway response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690" name="Group 103"/>
          <p:cNvGrpSpPr/>
          <p:nvPr/>
        </p:nvGrpSpPr>
        <p:grpSpPr>
          <a:xfrm>
            <a:off x="1044000" y="1992240"/>
            <a:ext cx="7033320" cy="4447800"/>
            <a:chOff x="1044000" y="1992240"/>
            <a:chExt cx="7033320" cy="4447800"/>
          </a:xfrm>
        </p:grpSpPr>
        <p:pic>
          <p:nvPicPr>
            <p:cNvPr id="1691" name="Picture 6" descr=""/>
            <p:cNvPicPr/>
            <p:nvPr/>
          </p:nvPicPr>
          <p:blipFill>
            <a:blip r:embed="rId1"/>
            <a:stretch/>
          </p:blipFill>
          <p:spPr>
            <a:xfrm>
              <a:off x="1105560" y="2008080"/>
              <a:ext cx="69717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2" name="Text Box 7"/>
            <p:cNvSpPr/>
            <p:nvPr/>
          </p:nvSpPr>
          <p:spPr>
            <a:xfrm>
              <a:off x="1044000" y="1995480"/>
              <a:ext cx="838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Signal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molecul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3" name="Text Box 8"/>
            <p:cNvSpPr/>
            <p:nvPr/>
          </p:nvSpPr>
          <p:spPr>
            <a:xfrm>
              <a:off x="2309400" y="1992240"/>
              <a:ext cx="1515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Signal-binding si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4" name="Text Box 13"/>
            <p:cNvSpPr/>
            <p:nvPr/>
          </p:nvSpPr>
          <p:spPr>
            <a:xfrm>
              <a:off x="1135080" y="3697920"/>
              <a:ext cx="106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CYTOPLASM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5" name="Text Box 14"/>
            <p:cNvSpPr/>
            <p:nvPr/>
          </p:nvSpPr>
          <p:spPr>
            <a:xfrm>
              <a:off x="1131480" y="3059640"/>
              <a:ext cx="869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yrosine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6" name="Text Box 15"/>
            <p:cNvSpPr/>
            <p:nvPr/>
          </p:nvSpPr>
          <p:spPr>
            <a:xfrm>
              <a:off x="4695120" y="2313360"/>
              <a:ext cx="726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Signal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molecul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7" name="Text Box 16"/>
            <p:cNvSpPr/>
            <p:nvPr/>
          </p:nvSpPr>
          <p:spPr>
            <a:xfrm>
              <a:off x="1144800" y="2404080"/>
              <a:ext cx="11271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Helix in the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Membran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8" name="Line 17"/>
            <p:cNvSpPr/>
            <p:nvPr/>
          </p:nvSpPr>
          <p:spPr>
            <a:xfrm>
              <a:off x="1641600" y="2172960"/>
              <a:ext cx="536040" cy="630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17280" bIns="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99" name="Line 18"/>
            <p:cNvSpPr/>
            <p:nvPr/>
          </p:nvSpPr>
          <p:spPr>
            <a:xfrm>
              <a:off x="1909800" y="2620440"/>
              <a:ext cx="603000" cy="1267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0" name="Line 19"/>
            <p:cNvSpPr/>
            <p:nvPr/>
          </p:nvSpPr>
          <p:spPr>
            <a:xfrm>
              <a:off x="1909800" y="3202200"/>
              <a:ext cx="435600" cy="1378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1" name="Line 20"/>
            <p:cNvSpPr/>
            <p:nvPr/>
          </p:nvSpPr>
          <p:spPr>
            <a:xfrm flipV="1">
              <a:off x="1899360" y="3071160"/>
              <a:ext cx="468360" cy="1267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2" name="Line 21"/>
            <p:cNvSpPr/>
            <p:nvPr/>
          </p:nvSpPr>
          <p:spPr>
            <a:xfrm>
              <a:off x="1921680" y="3205080"/>
              <a:ext cx="40140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3" name="Line 22"/>
            <p:cNvSpPr/>
            <p:nvPr/>
          </p:nvSpPr>
          <p:spPr>
            <a:xfrm>
              <a:off x="2581200" y="3461400"/>
              <a:ext cx="267840" cy="1278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4" name="Line 23"/>
            <p:cNvSpPr/>
            <p:nvPr/>
          </p:nvSpPr>
          <p:spPr>
            <a:xfrm flipH="1">
              <a:off x="2834280" y="3461400"/>
              <a:ext cx="199800" cy="1278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5" name="Line 24"/>
            <p:cNvSpPr/>
            <p:nvPr/>
          </p:nvSpPr>
          <p:spPr>
            <a:xfrm>
              <a:off x="3049200" y="2235960"/>
              <a:ext cx="0" cy="2883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6" name="Text Box 26"/>
            <p:cNvSpPr/>
            <p:nvPr/>
          </p:nvSpPr>
          <p:spPr>
            <a:xfrm>
              <a:off x="2312280" y="29404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7" name="Text Box 27"/>
            <p:cNvSpPr/>
            <p:nvPr/>
          </p:nvSpPr>
          <p:spPr>
            <a:xfrm>
              <a:off x="2303640" y="30880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8" name="Text Box 28"/>
            <p:cNvSpPr/>
            <p:nvPr/>
          </p:nvSpPr>
          <p:spPr>
            <a:xfrm>
              <a:off x="2315520" y="32230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9" name="Text Box 29"/>
            <p:cNvSpPr/>
            <p:nvPr/>
          </p:nvSpPr>
          <p:spPr>
            <a:xfrm>
              <a:off x="3007440" y="308520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0" name="Text Box 30"/>
            <p:cNvSpPr/>
            <p:nvPr/>
          </p:nvSpPr>
          <p:spPr>
            <a:xfrm>
              <a:off x="3007440" y="32230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1" name="Text Box 31"/>
            <p:cNvSpPr/>
            <p:nvPr/>
          </p:nvSpPr>
          <p:spPr>
            <a:xfrm>
              <a:off x="2998440" y="29512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2" name="Text Box 33"/>
            <p:cNvSpPr/>
            <p:nvPr/>
          </p:nvSpPr>
          <p:spPr>
            <a:xfrm>
              <a:off x="5237640" y="301500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3" name="Text Box 34"/>
            <p:cNvSpPr/>
            <p:nvPr/>
          </p:nvSpPr>
          <p:spPr>
            <a:xfrm>
              <a:off x="5230080" y="316296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4" name="Text Box 35"/>
            <p:cNvSpPr/>
            <p:nvPr/>
          </p:nvSpPr>
          <p:spPr>
            <a:xfrm>
              <a:off x="5241960" y="329796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5" name="Text Box 36"/>
            <p:cNvSpPr/>
            <p:nvPr/>
          </p:nvSpPr>
          <p:spPr>
            <a:xfrm>
              <a:off x="5935680" y="315144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6" name="Text Box 37"/>
            <p:cNvSpPr/>
            <p:nvPr/>
          </p:nvSpPr>
          <p:spPr>
            <a:xfrm>
              <a:off x="5935680" y="329112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7" name="Text Box 38"/>
            <p:cNvSpPr/>
            <p:nvPr/>
          </p:nvSpPr>
          <p:spPr>
            <a:xfrm>
              <a:off x="5923800" y="30052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718" name="Group 40"/>
            <p:cNvGrpSpPr/>
            <p:nvPr/>
          </p:nvGrpSpPr>
          <p:grpSpPr>
            <a:xfrm>
              <a:off x="1620720" y="5044320"/>
              <a:ext cx="346680" cy="489600"/>
              <a:chOff x="1620720" y="5044320"/>
              <a:chExt cx="346680" cy="489600"/>
            </a:xfrm>
          </p:grpSpPr>
          <p:sp>
            <p:nvSpPr>
              <p:cNvPr id="1719" name="Text Box 41"/>
              <p:cNvSpPr/>
              <p:nvPr/>
            </p:nvSpPr>
            <p:spPr>
              <a:xfrm>
                <a:off x="1631520" y="504432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20" name="Text Box 42"/>
              <p:cNvSpPr/>
              <p:nvPr/>
            </p:nvSpPr>
            <p:spPr>
              <a:xfrm>
                <a:off x="1620720" y="519048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21" name="Text Box 43"/>
              <p:cNvSpPr/>
              <p:nvPr/>
            </p:nvSpPr>
            <p:spPr>
              <a:xfrm>
                <a:off x="1631520" y="531972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722" name="Group 44"/>
            <p:cNvGrpSpPr/>
            <p:nvPr/>
          </p:nvGrpSpPr>
          <p:grpSpPr>
            <a:xfrm>
              <a:off x="1961280" y="5031360"/>
              <a:ext cx="344160" cy="494280"/>
              <a:chOff x="1961280" y="5031360"/>
              <a:chExt cx="344160" cy="494280"/>
            </a:xfrm>
          </p:grpSpPr>
          <p:sp>
            <p:nvSpPr>
              <p:cNvPr id="1723" name="Text Box 45"/>
              <p:cNvSpPr/>
              <p:nvPr/>
            </p:nvSpPr>
            <p:spPr>
              <a:xfrm>
                <a:off x="1969560" y="517212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24" name="Text Box 46"/>
              <p:cNvSpPr/>
              <p:nvPr/>
            </p:nvSpPr>
            <p:spPr>
              <a:xfrm>
                <a:off x="1969560" y="531144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25" name="Text Box 47"/>
              <p:cNvSpPr/>
              <p:nvPr/>
            </p:nvSpPr>
            <p:spPr>
              <a:xfrm>
                <a:off x="1961280" y="503136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726" name="Text Box 49"/>
            <p:cNvSpPr/>
            <p:nvPr/>
          </p:nvSpPr>
          <p:spPr>
            <a:xfrm>
              <a:off x="3278520" y="502884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27" name="Text Box 50"/>
            <p:cNvSpPr/>
            <p:nvPr/>
          </p:nvSpPr>
          <p:spPr>
            <a:xfrm>
              <a:off x="3266640" y="517824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28" name="Text Box 51"/>
            <p:cNvSpPr/>
            <p:nvPr/>
          </p:nvSpPr>
          <p:spPr>
            <a:xfrm>
              <a:off x="3278520" y="531324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29" name="Text Box 53"/>
            <p:cNvSpPr/>
            <p:nvPr/>
          </p:nvSpPr>
          <p:spPr>
            <a:xfrm>
              <a:off x="3595680" y="518508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0" name="Text Box 54"/>
            <p:cNvSpPr/>
            <p:nvPr/>
          </p:nvSpPr>
          <p:spPr>
            <a:xfrm>
              <a:off x="3595680" y="532476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1" name="Text Box 55"/>
            <p:cNvSpPr/>
            <p:nvPr/>
          </p:nvSpPr>
          <p:spPr>
            <a:xfrm>
              <a:off x="3585240" y="5045760"/>
              <a:ext cx="335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Tyr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732" name="Group 57"/>
            <p:cNvGrpSpPr/>
            <p:nvPr/>
          </p:nvGrpSpPr>
          <p:grpSpPr>
            <a:xfrm>
              <a:off x="7019280" y="3007800"/>
              <a:ext cx="348120" cy="497160"/>
              <a:chOff x="7019280" y="3007800"/>
              <a:chExt cx="348120" cy="497160"/>
            </a:xfrm>
          </p:grpSpPr>
          <p:sp>
            <p:nvSpPr>
              <p:cNvPr id="1733" name="Text Box 58"/>
              <p:cNvSpPr/>
              <p:nvPr/>
            </p:nvSpPr>
            <p:spPr>
              <a:xfrm>
                <a:off x="7030080" y="300780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34" name="Text Box 59"/>
              <p:cNvSpPr/>
              <p:nvPr/>
            </p:nvSpPr>
            <p:spPr>
              <a:xfrm>
                <a:off x="7019280" y="315648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35" name="Text Box 60"/>
              <p:cNvSpPr/>
              <p:nvPr/>
            </p:nvSpPr>
            <p:spPr>
              <a:xfrm>
                <a:off x="7031520" y="329076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736" name="Group 61"/>
            <p:cNvGrpSpPr/>
            <p:nvPr/>
          </p:nvGrpSpPr>
          <p:grpSpPr>
            <a:xfrm>
              <a:off x="7320960" y="3014640"/>
              <a:ext cx="345600" cy="491400"/>
              <a:chOff x="7320960" y="3014640"/>
              <a:chExt cx="345600" cy="491400"/>
            </a:xfrm>
          </p:grpSpPr>
          <p:sp>
            <p:nvSpPr>
              <p:cNvPr id="1737" name="Text Box 62"/>
              <p:cNvSpPr/>
              <p:nvPr/>
            </p:nvSpPr>
            <p:spPr>
              <a:xfrm>
                <a:off x="7330680" y="315504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38" name="Text Box 63"/>
              <p:cNvSpPr/>
              <p:nvPr/>
            </p:nvSpPr>
            <p:spPr>
              <a:xfrm>
                <a:off x="7330680" y="329184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39" name="Text Box 64"/>
              <p:cNvSpPr/>
              <p:nvPr/>
            </p:nvSpPr>
            <p:spPr>
              <a:xfrm>
                <a:off x="7320960" y="3014640"/>
                <a:ext cx="3358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40458c"/>
                    </a:solidFill>
                    <a:latin typeface="Comic Sans MS"/>
                  </a:rPr>
                  <a:t>Tyr</a:t>
                </a:r>
                <a:endParaRPr b="0" lang="en-US" sz="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740" name="Line 65"/>
            <p:cNvSpPr/>
            <p:nvPr/>
          </p:nvSpPr>
          <p:spPr>
            <a:xfrm>
              <a:off x="7220880" y="3589560"/>
              <a:ext cx="112320" cy="1267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1" name="Line 66"/>
            <p:cNvSpPr/>
            <p:nvPr/>
          </p:nvSpPr>
          <p:spPr>
            <a:xfrm flipH="1">
              <a:off x="7324200" y="3589560"/>
              <a:ext cx="90360" cy="1267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2" name="Text Box 67"/>
            <p:cNvSpPr/>
            <p:nvPr/>
          </p:nvSpPr>
          <p:spPr>
            <a:xfrm>
              <a:off x="7033320" y="367380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Dimer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3" name="Text Box 68"/>
            <p:cNvSpPr/>
            <p:nvPr/>
          </p:nvSpPr>
          <p:spPr>
            <a:xfrm>
              <a:off x="2263320" y="3515760"/>
              <a:ext cx="1402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Receptor tyrosine</a:t>
              </a:r>
              <a:br>
                <a:rPr sz="1000"/>
              </a:b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kinase proteins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(inactive monomers)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4" name="Text Box 70"/>
            <p:cNvSpPr/>
            <p:nvPr/>
          </p:nvSpPr>
          <p:spPr>
            <a:xfrm>
              <a:off x="3167280" y="50360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5" name="Text Box 71"/>
            <p:cNvSpPr/>
            <p:nvPr/>
          </p:nvSpPr>
          <p:spPr>
            <a:xfrm>
              <a:off x="3165840" y="516528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6" name="Text Box 72"/>
            <p:cNvSpPr/>
            <p:nvPr/>
          </p:nvSpPr>
          <p:spPr>
            <a:xfrm>
              <a:off x="3165840" y="53049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7" name="Text Box 73"/>
            <p:cNvSpPr/>
            <p:nvPr/>
          </p:nvSpPr>
          <p:spPr>
            <a:xfrm>
              <a:off x="3768840" y="51962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8" name="Text Box 74"/>
            <p:cNvSpPr/>
            <p:nvPr/>
          </p:nvSpPr>
          <p:spPr>
            <a:xfrm>
              <a:off x="3764160" y="53388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9" name="Text Box 75"/>
            <p:cNvSpPr/>
            <p:nvPr/>
          </p:nvSpPr>
          <p:spPr>
            <a:xfrm>
              <a:off x="3768840" y="5058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750" name="Group 77"/>
            <p:cNvGrpSpPr/>
            <p:nvPr/>
          </p:nvGrpSpPr>
          <p:grpSpPr>
            <a:xfrm>
              <a:off x="5467680" y="5014440"/>
              <a:ext cx="648360" cy="494280"/>
              <a:chOff x="5467680" y="5014440"/>
              <a:chExt cx="648360" cy="494280"/>
            </a:xfrm>
          </p:grpSpPr>
          <p:grpSp>
            <p:nvGrpSpPr>
              <p:cNvPr id="1751" name="Group 78"/>
              <p:cNvGrpSpPr/>
              <p:nvPr/>
            </p:nvGrpSpPr>
            <p:grpSpPr>
              <a:xfrm>
                <a:off x="5467680" y="5014440"/>
                <a:ext cx="348120" cy="492840"/>
                <a:chOff x="5467680" y="5014440"/>
                <a:chExt cx="348120" cy="492840"/>
              </a:xfrm>
            </p:grpSpPr>
            <p:sp>
              <p:nvSpPr>
                <p:cNvPr id="1752" name="Text Box 79"/>
                <p:cNvSpPr/>
                <p:nvPr/>
              </p:nvSpPr>
              <p:spPr>
                <a:xfrm>
                  <a:off x="5479920" y="501444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53" name="Text Box 80"/>
                <p:cNvSpPr/>
                <p:nvPr/>
              </p:nvSpPr>
              <p:spPr>
                <a:xfrm>
                  <a:off x="5467680" y="516708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54" name="Text Box 81"/>
                <p:cNvSpPr/>
                <p:nvPr/>
              </p:nvSpPr>
              <p:spPr>
                <a:xfrm>
                  <a:off x="5479920" y="529308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5" name="Group 82"/>
              <p:cNvGrpSpPr/>
              <p:nvPr/>
            </p:nvGrpSpPr>
            <p:grpSpPr>
              <a:xfrm>
                <a:off x="5769360" y="5019840"/>
                <a:ext cx="346680" cy="488880"/>
                <a:chOff x="5769360" y="5019840"/>
                <a:chExt cx="346680" cy="488880"/>
              </a:xfrm>
            </p:grpSpPr>
            <p:sp>
              <p:nvSpPr>
                <p:cNvPr id="1756" name="Text Box 83"/>
                <p:cNvSpPr/>
                <p:nvPr/>
              </p:nvSpPr>
              <p:spPr>
                <a:xfrm>
                  <a:off x="5780160" y="515916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57" name="Text Box 84"/>
                <p:cNvSpPr/>
                <p:nvPr/>
              </p:nvSpPr>
              <p:spPr>
                <a:xfrm>
                  <a:off x="5777280" y="529452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58" name="Text Box 85"/>
                <p:cNvSpPr/>
                <p:nvPr/>
              </p:nvSpPr>
              <p:spPr>
                <a:xfrm>
                  <a:off x="5769360" y="5019840"/>
                  <a:ext cx="335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0458c"/>
                      </a:solidFill>
                      <a:latin typeface="Comic Sans MS"/>
                    </a:rPr>
                    <a:t>Tyr</a:t>
                  </a:r>
                  <a:endParaRPr b="0" lang="en-US" sz="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59" name="Text Box 86"/>
            <p:cNvSpPr/>
            <p:nvPr/>
          </p:nvSpPr>
          <p:spPr>
            <a:xfrm>
              <a:off x="5369040" y="50119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0" name="Text Box 87"/>
            <p:cNvSpPr/>
            <p:nvPr/>
          </p:nvSpPr>
          <p:spPr>
            <a:xfrm>
              <a:off x="5369040" y="516528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1" name="Text Box 88"/>
            <p:cNvSpPr/>
            <p:nvPr/>
          </p:nvSpPr>
          <p:spPr>
            <a:xfrm>
              <a:off x="5357520" y="530208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2" name="Text Box 89"/>
            <p:cNvSpPr/>
            <p:nvPr/>
          </p:nvSpPr>
          <p:spPr>
            <a:xfrm>
              <a:off x="5951520" y="51530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3" name="Text Box 90"/>
            <p:cNvSpPr/>
            <p:nvPr/>
          </p:nvSpPr>
          <p:spPr>
            <a:xfrm>
              <a:off x="5951520" y="52920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4" name="Text Box 91"/>
            <p:cNvSpPr/>
            <p:nvPr/>
          </p:nvSpPr>
          <p:spPr>
            <a:xfrm>
              <a:off x="5951520" y="50076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58c"/>
                  </a:solidFill>
                  <a:latin typeface="Comic Sans MS"/>
                </a:rPr>
                <a:t>P</a:t>
              </a:r>
              <a:endParaRPr b="0" lang="en-US" sz="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5" name="Text Box 92"/>
            <p:cNvSpPr/>
            <p:nvPr/>
          </p:nvSpPr>
          <p:spPr>
            <a:xfrm>
              <a:off x="6819480" y="4875480"/>
              <a:ext cx="973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Cellular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sponse 1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6" name="Text Box 93"/>
            <p:cNvSpPr/>
            <p:nvPr/>
          </p:nvSpPr>
          <p:spPr>
            <a:xfrm>
              <a:off x="5738760" y="5769720"/>
              <a:ext cx="1172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nactive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lay protein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7" name="Text Box 94"/>
            <p:cNvSpPr/>
            <p:nvPr/>
          </p:nvSpPr>
          <p:spPr>
            <a:xfrm>
              <a:off x="6232320" y="4385160"/>
              <a:ext cx="1172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Activated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lay protein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8" name="Text Box 95"/>
            <p:cNvSpPr/>
            <p:nvPr/>
          </p:nvSpPr>
          <p:spPr>
            <a:xfrm>
              <a:off x="6832800" y="5245920"/>
              <a:ext cx="973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Cellular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sponse 2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9" name="Text Box 96"/>
            <p:cNvSpPr/>
            <p:nvPr/>
          </p:nvSpPr>
          <p:spPr>
            <a:xfrm>
              <a:off x="1272600" y="5604840"/>
              <a:ext cx="15566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Activated tyrosine-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kinase region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(unphosphorylated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dimer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0" name="Text Box 97"/>
            <p:cNvSpPr/>
            <p:nvPr/>
          </p:nvSpPr>
          <p:spPr>
            <a:xfrm>
              <a:off x="2917440" y="5617440"/>
              <a:ext cx="18568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Fully activated receptor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yrosine-kina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(phosphorylated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dimer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1" name="Text Box 98"/>
            <p:cNvSpPr/>
            <p:nvPr/>
          </p:nvSpPr>
          <p:spPr>
            <a:xfrm>
              <a:off x="2201400" y="5371920"/>
              <a:ext cx="10825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Comic Sans MS"/>
                </a:rPr>
                <a:t>6    ATP      6 ADP</a:t>
              </a:r>
              <a:endParaRPr b="0" lang="en-US" sz="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2" name="Line 99"/>
            <p:cNvSpPr/>
            <p:nvPr/>
          </p:nvSpPr>
          <p:spPr>
            <a:xfrm flipV="1">
              <a:off x="6267960" y="4791960"/>
              <a:ext cx="133200" cy="1911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3" name="Line 100"/>
            <p:cNvSpPr/>
            <p:nvPr/>
          </p:nvSpPr>
          <p:spPr>
            <a:xfrm flipV="1">
              <a:off x="6334920" y="4791960"/>
              <a:ext cx="66240" cy="7023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4" name="Text Box 101"/>
            <p:cNvSpPr/>
            <p:nvPr/>
          </p:nvSpPr>
          <p:spPr>
            <a:xfrm>
              <a:off x="4078080" y="4018320"/>
              <a:ext cx="1155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Figure 11.7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 txBox="1"/>
          <p:nvPr/>
        </p:nvSpPr>
        <p:spPr>
          <a:xfrm>
            <a:off x="685440" y="6364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Ion channel receptors</a:t>
            </a: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776" name="Group 21"/>
          <p:cNvGrpSpPr/>
          <p:nvPr/>
        </p:nvGrpSpPr>
        <p:grpSpPr>
          <a:xfrm>
            <a:off x="4314240" y="1195560"/>
            <a:ext cx="4420080" cy="5579640"/>
            <a:chOff x="4314240" y="1195560"/>
            <a:chExt cx="4420080" cy="5579640"/>
          </a:xfrm>
        </p:grpSpPr>
        <p:pic>
          <p:nvPicPr>
            <p:cNvPr id="1777" name="Picture 5" descr=""/>
            <p:cNvPicPr/>
            <p:nvPr/>
          </p:nvPicPr>
          <p:blipFill>
            <a:blip r:embed="rId1"/>
            <a:stretch/>
          </p:blipFill>
          <p:spPr>
            <a:xfrm>
              <a:off x="5724360" y="1195560"/>
              <a:ext cx="3008160" cy="55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8" name="Text Box 6"/>
            <p:cNvSpPr/>
            <p:nvPr/>
          </p:nvSpPr>
          <p:spPr>
            <a:xfrm>
              <a:off x="7794000" y="4559760"/>
              <a:ext cx="846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Cellular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spon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9" name="Text Box 7"/>
            <p:cNvSpPr/>
            <p:nvPr/>
          </p:nvSpPr>
          <p:spPr>
            <a:xfrm>
              <a:off x="5795280" y="3206160"/>
              <a:ext cx="928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ate open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0" name="Text Box 8"/>
            <p:cNvSpPr/>
            <p:nvPr/>
          </p:nvSpPr>
          <p:spPr>
            <a:xfrm>
              <a:off x="6862320" y="5512680"/>
              <a:ext cx="925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ate clo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1" name="Text Box 9"/>
            <p:cNvSpPr/>
            <p:nvPr/>
          </p:nvSpPr>
          <p:spPr>
            <a:xfrm>
              <a:off x="5820120" y="2410560"/>
              <a:ext cx="166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Ligand-gated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on channel receptor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2" name="Text Box 10"/>
            <p:cNvSpPr/>
            <p:nvPr/>
          </p:nvSpPr>
          <p:spPr>
            <a:xfrm>
              <a:off x="7759800" y="2410560"/>
              <a:ext cx="9745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Plasma 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Membran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3" name="Text Box 11"/>
            <p:cNvSpPr/>
            <p:nvPr/>
          </p:nvSpPr>
          <p:spPr>
            <a:xfrm>
              <a:off x="5740920" y="1274760"/>
              <a:ext cx="838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Signal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molecule</a:t>
              </a:r>
              <a:br>
                <a:rPr sz="1200"/>
              </a:b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(ligand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4" name="Line 12"/>
            <p:cNvSpPr/>
            <p:nvPr/>
          </p:nvSpPr>
          <p:spPr>
            <a:xfrm>
              <a:off x="6350400" y="1418400"/>
              <a:ext cx="20844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5" name="Line 13"/>
            <p:cNvSpPr/>
            <p:nvPr/>
          </p:nvSpPr>
          <p:spPr>
            <a:xfrm>
              <a:off x="7088400" y="1614960"/>
              <a:ext cx="0" cy="2880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6" name="Line 14"/>
            <p:cNvSpPr/>
            <p:nvPr/>
          </p:nvSpPr>
          <p:spPr>
            <a:xfrm>
              <a:off x="7071840" y="5769360"/>
              <a:ext cx="0" cy="2880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7" name="Line 15"/>
            <p:cNvSpPr/>
            <p:nvPr/>
          </p:nvSpPr>
          <p:spPr>
            <a:xfrm>
              <a:off x="6414480" y="3449520"/>
              <a:ext cx="385200" cy="781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2400" bIns="324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8" name="Line 16"/>
            <p:cNvSpPr/>
            <p:nvPr/>
          </p:nvSpPr>
          <p:spPr>
            <a:xfrm flipH="1">
              <a:off x="6494400" y="2296080"/>
              <a:ext cx="385200" cy="1573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9" name="Line 17"/>
            <p:cNvSpPr/>
            <p:nvPr/>
          </p:nvSpPr>
          <p:spPr>
            <a:xfrm flipH="1">
              <a:off x="8034840" y="2296080"/>
              <a:ext cx="192240" cy="1573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0" name="Text Box 18"/>
            <p:cNvSpPr/>
            <p:nvPr/>
          </p:nvSpPr>
          <p:spPr>
            <a:xfrm>
              <a:off x="4314240" y="6469560"/>
              <a:ext cx="1155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Figure 11.7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1" name="Rectangle 19"/>
            <p:cNvSpPr/>
            <p:nvPr/>
          </p:nvSpPr>
          <p:spPr>
            <a:xfrm>
              <a:off x="6514920" y="1283040"/>
              <a:ext cx="1100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ate closed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2" name="Rectangle 20"/>
            <p:cNvSpPr/>
            <p:nvPr/>
          </p:nvSpPr>
          <p:spPr>
            <a:xfrm>
              <a:off x="7721640" y="1332000"/>
              <a:ext cx="49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on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793" name="TextBox 2"/>
          <p:cNvSpPr/>
          <p:nvPr/>
        </p:nvSpPr>
        <p:spPr>
          <a:xfrm>
            <a:off x="838080" y="173340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When ligand binds, channel can open or close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694"/>
                </a:solidFill>
                <a:latin typeface="Arial"/>
              </a:rPr>
              <a:t>Ex: neurotransmitters bind as ligands for Na+ ion channel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4" name="Group 99"/>
          <p:cNvGrpSpPr/>
          <p:nvPr/>
        </p:nvGrpSpPr>
        <p:grpSpPr>
          <a:xfrm>
            <a:off x="2307600" y="2039760"/>
            <a:ext cx="3392280" cy="4457160"/>
            <a:chOff x="2307600" y="2039760"/>
            <a:chExt cx="3392280" cy="4457160"/>
          </a:xfrm>
        </p:grpSpPr>
        <p:grpSp>
          <p:nvGrpSpPr>
            <p:cNvPr id="1795" name="Group 98"/>
            <p:cNvGrpSpPr/>
            <p:nvPr/>
          </p:nvGrpSpPr>
          <p:grpSpPr>
            <a:xfrm>
              <a:off x="3459960" y="2086200"/>
              <a:ext cx="2038320" cy="4330080"/>
              <a:chOff x="3459960" y="2086200"/>
              <a:chExt cx="2038320" cy="4330080"/>
            </a:xfrm>
          </p:grpSpPr>
          <p:grpSp>
            <p:nvGrpSpPr>
              <p:cNvPr id="1796" name="Group 97"/>
              <p:cNvGrpSpPr/>
              <p:nvPr/>
            </p:nvGrpSpPr>
            <p:grpSpPr>
              <a:xfrm>
                <a:off x="3459960" y="2086200"/>
                <a:ext cx="2038320" cy="4330080"/>
                <a:chOff x="3459960" y="2086200"/>
                <a:chExt cx="2038320" cy="4330080"/>
              </a:xfrm>
            </p:grpSpPr>
            <p:pic>
              <p:nvPicPr>
                <p:cNvPr id="1797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59960" y="2086200"/>
                  <a:ext cx="2038320" cy="433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8" name="Line 10"/>
                <p:cNvSpPr/>
                <p:nvPr/>
              </p:nvSpPr>
              <p:spPr>
                <a:xfrm flipH="1">
                  <a:off x="3686040" y="3026880"/>
                  <a:ext cx="32040" cy="12564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9" name="Line 14"/>
              <p:cNvSpPr/>
              <p:nvPr/>
            </p:nvSpPr>
            <p:spPr>
              <a:xfrm>
                <a:off x="4698720" y="3476520"/>
                <a:ext cx="180000" cy="9468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800" name="Group 96"/>
            <p:cNvGrpSpPr/>
            <p:nvPr/>
          </p:nvGrpSpPr>
          <p:grpSpPr>
            <a:xfrm>
              <a:off x="2307600" y="2039760"/>
              <a:ext cx="3392280" cy="4457160"/>
              <a:chOff x="2307600" y="2039760"/>
              <a:chExt cx="3392280" cy="4457160"/>
            </a:xfrm>
          </p:grpSpPr>
          <p:sp>
            <p:nvSpPr>
              <p:cNvPr id="1801" name="Text Box 7"/>
              <p:cNvSpPr/>
              <p:nvPr/>
            </p:nvSpPr>
            <p:spPr>
              <a:xfrm>
                <a:off x="3501360" y="2039760"/>
                <a:ext cx="110844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Hormone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(testosterone)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2" name="Text Box 8"/>
              <p:cNvSpPr/>
              <p:nvPr/>
            </p:nvSpPr>
            <p:spPr>
              <a:xfrm>
                <a:off x="4408560" y="2076480"/>
                <a:ext cx="11588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Comic Sans MS"/>
                  </a:rPr>
                  <a:t>EXTRACELLULAR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0458c"/>
                    </a:solidFill>
                    <a:latin typeface="Comic Sans MS"/>
                  </a:rPr>
                  <a:t>FLUID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3" name="Text Box 9"/>
              <p:cNvSpPr/>
              <p:nvPr/>
            </p:nvSpPr>
            <p:spPr>
              <a:xfrm>
                <a:off x="3501720" y="3069720"/>
                <a:ext cx="77796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Receptor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protein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4" name="Line 12"/>
              <p:cNvSpPr/>
              <p:nvPr/>
            </p:nvSpPr>
            <p:spPr>
              <a:xfrm>
                <a:off x="5077440" y="2746080"/>
                <a:ext cx="0" cy="19800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5" name="Text Box 15"/>
              <p:cNvSpPr/>
              <p:nvPr/>
            </p:nvSpPr>
            <p:spPr>
              <a:xfrm>
                <a:off x="4435920" y="4699800"/>
                <a:ext cx="4838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DNA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6" name="Text Box 16"/>
              <p:cNvSpPr/>
              <p:nvPr/>
            </p:nvSpPr>
            <p:spPr>
              <a:xfrm>
                <a:off x="3442680" y="4937040"/>
                <a:ext cx="5994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mRNA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7" name="Text Box 17"/>
              <p:cNvSpPr/>
              <p:nvPr/>
            </p:nvSpPr>
            <p:spPr>
              <a:xfrm>
                <a:off x="3434400" y="5451120"/>
                <a:ext cx="812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NUCLEUS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8" name="Text Box 18"/>
              <p:cNvSpPr/>
              <p:nvPr/>
            </p:nvSpPr>
            <p:spPr>
              <a:xfrm>
                <a:off x="3414600" y="6178680"/>
                <a:ext cx="9928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CYTOPLASM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09" name="Line 20"/>
              <p:cNvSpPr/>
              <p:nvPr/>
            </p:nvSpPr>
            <p:spPr>
              <a:xfrm flipH="1">
                <a:off x="4998240" y="5716080"/>
                <a:ext cx="119520" cy="12420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10" name="Text Box 11"/>
              <p:cNvSpPr/>
              <p:nvPr/>
            </p:nvSpPr>
            <p:spPr>
              <a:xfrm>
                <a:off x="4703760" y="2882880"/>
                <a:ext cx="91656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Plasma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membrane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11" name="Text Box 13"/>
              <p:cNvSpPr/>
              <p:nvPr/>
            </p:nvSpPr>
            <p:spPr>
              <a:xfrm>
                <a:off x="4839840" y="3426120"/>
                <a:ext cx="8600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Hormone-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receptor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complex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12" name="Text Box 19"/>
              <p:cNvSpPr/>
              <p:nvPr/>
            </p:nvSpPr>
            <p:spPr>
              <a:xfrm>
                <a:off x="4647960" y="5479560"/>
                <a:ext cx="10004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40458c"/>
                    </a:solidFill>
                    <a:latin typeface="Comic Sans MS"/>
                  </a:rPr>
                  <a:t>New protein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13" name="Text Box 64"/>
              <p:cNvSpPr/>
              <p:nvPr/>
            </p:nvSpPr>
            <p:spPr>
              <a:xfrm>
                <a:off x="2307600" y="6191280"/>
                <a:ext cx="11559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b7c1eb"/>
                    </a:solidFill>
                    <a:latin typeface="Comic Sans MS"/>
                  </a:rPr>
                  <a:t>Figure 11.6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46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*Intracellular Receptors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380880" y="1294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arget protein is INSIDE the cell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ust be hydrophobic molecu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816" name="Group 100"/>
          <p:cNvGrpSpPr/>
          <p:nvPr/>
        </p:nvGrpSpPr>
        <p:grpSpPr>
          <a:xfrm>
            <a:off x="4970520" y="2058840"/>
            <a:ext cx="2706120" cy="777240"/>
            <a:chOff x="4970520" y="2058840"/>
            <a:chExt cx="2706120" cy="777240"/>
          </a:xfrm>
        </p:grpSpPr>
        <p:sp>
          <p:nvSpPr>
            <p:cNvPr id="1817" name="AutoShape 101"/>
            <p:cNvSpPr/>
            <p:nvPr/>
          </p:nvSpPr>
          <p:spPr>
            <a:xfrm>
              <a:off x="5951520" y="2116080"/>
              <a:ext cx="154080" cy="162000"/>
            </a:xfrm>
            <a:prstGeom prst="flowChartConnector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818" name="Group 102"/>
            <p:cNvGrpSpPr/>
            <p:nvPr/>
          </p:nvGrpSpPr>
          <p:grpSpPr>
            <a:xfrm>
              <a:off x="4970520" y="2058840"/>
              <a:ext cx="2706120" cy="777240"/>
              <a:chOff x="4970520" y="2058840"/>
              <a:chExt cx="2706120" cy="777240"/>
            </a:xfrm>
          </p:grpSpPr>
          <p:sp>
            <p:nvSpPr>
              <p:cNvPr id="1819" name="Text Box 103"/>
              <p:cNvSpPr/>
              <p:nvPr/>
            </p:nvSpPr>
            <p:spPr>
              <a:xfrm>
                <a:off x="5897160" y="205884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820" name="Group 104"/>
              <p:cNvGrpSpPr/>
              <p:nvPr/>
            </p:nvGrpSpPr>
            <p:grpSpPr>
              <a:xfrm>
                <a:off x="4970520" y="2073960"/>
                <a:ext cx="2706120" cy="762120"/>
                <a:chOff x="4970520" y="2073960"/>
                <a:chExt cx="2706120" cy="762120"/>
              </a:xfrm>
            </p:grpSpPr>
            <p:sp>
              <p:nvSpPr>
                <p:cNvPr id="1821" name="Text Box 105"/>
                <p:cNvSpPr/>
                <p:nvPr/>
              </p:nvSpPr>
              <p:spPr>
                <a:xfrm>
                  <a:off x="5879160" y="2073960"/>
                  <a:ext cx="1797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  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he steroid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hormone testosterone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passes through the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plasma membrane.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22" name="Line 106"/>
                <p:cNvSpPr/>
                <p:nvPr/>
              </p:nvSpPr>
              <p:spPr>
                <a:xfrm flipV="1">
                  <a:off x="5889600" y="2123640"/>
                  <a:ext cx="0" cy="584280"/>
                </a:xfrm>
                <a:prstGeom prst="line">
                  <a:avLst/>
                </a:prstGeom>
                <a:ln w="255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23" name="Line 107"/>
                <p:cNvSpPr/>
                <p:nvPr/>
              </p:nvSpPr>
              <p:spPr>
                <a:xfrm>
                  <a:off x="4970520" y="2414520"/>
                  <a:ext cx="919080" cy="0"/>
                </a:xfrm>
                <a:prstGeom prst="line">
                  <a:avLst/>
                </a:prstGeom>
                <a:ln w="25560">
                  <a:solidFill>
                    <a:srgbClr val="b7c1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24" name="Group 108"/>
          <p:cNvGrpSpPr/>
          <p:nvPr/>
        </p:nvGrpSpPr>
        <p:grpSpPr>
          <a:xfrm>
            <a:off x="4479840" y="4927320"/>
            <a:ext cx="3077640" cy="771120"/>
            <a:chOff x="4479840" y="4927320"/>
            <a:chExt cx="3077640" cy="771120"/>
          </a:xfrm>
        </p:grpSpPr>
        <p:grpSp>
          <p:nvGrpSpPr>
            <p:cNvPr id="1825" name="Group 109"/>
            <p:cNvGrpSpPr/>
            <p:nvPr/>
          </p:nvGrpSpPr>
          <p:grpSpPr>
            <a:xfrm>
              <a:off x="5902200" y="4927320"/>
              <a:ext cx="1655280" cy="771120"/>
              <a:chOff x="5902200" y="4927320"/>
              <a:chExt cx="1655280" cy="771120"/>
            </a:xfrm>
          </p:grpSpPr>
          <p:sp>
            <p:nvSpPr>
              <p:cNvPr id="1826" name="Text Box 110"/>
              <p:cNvSpPr/>
              <p:nvPr/>
            </p:nvSpPr>
            <p:spPr>
              <a:xfrm>
                <a:off x="5921640" y="4936320"/>
                <a:ext cx="163584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0458c"/>
                    </a:solidFill>
                    <a:latin typeface="Comic Sans MS"/>
                  </a:rPr>
                  <a:t>    </a:t>
                </a:r>
                <a:r>
                  <a:rPr b="1" lang="en-US" sz="1100" spc="-1" strike="noStrike">
                    <a:solidFill>
                      <a:srgbClr val="40458c"/>
                    </a:solidFill>
                    <a:latin typeface="Comic Sans MS"/>
                  </a:rPr>
                  <a:t>The bound protein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0458c"/>
                    </a:solidFill>
                    <a:latin typeface="Comic Sans MS"/>
                  </a:rPr>
                  <a:t>stimulates the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0458c"/>
                    </a:solidFill>
                    <a:latin typeface="Comic Sans MS"/>
                  </a:rPr>
                  <a:t>transcription of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0458c"/>
                    </a:solidFill>
                    <a:latin typeface="Comic Sans MS"/>
                  </a:rPr>
                  <a:t>the gene into mRNA.</a:t>
                </a:r>
                <a:endParaRPr b="0" lang="en-US" sz="11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27" name="AutoShape 111"/>
              <p:cNvSpPr/>
              <p:nvPr/>
            </p:nvSpPr>
            <p:spPr>
              <a:xfrm>
                <a:off x="5954760" y="4979880"/>
                <a:ext cx="152280" cy="1620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28" name="Text Box 112"/>
              <p:cNvSpPr/>
              <p:nvPr/>
            </p:nvSpPr>
            <p:spPr>
              <a:xfrm>
                <a:off x="5902200" y="492732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4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29" name="Line 113"/>
            <p:cNvSpPr/>
            <p:nvPr/>
          </p:nvSpPr>
          <p:spPr>
            <a:xfrm flipV="1">
              <a:off x="5902200" y="5018040"/>
              <a:ext cx="0" cy="51912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30" name="Line 114"/>
            <p:cNvSpPr/>
            <p:nvPr/>
          </p:nvSpPr>
          <p:spPr>
            <a:xfrm>
              <a:off x="4479840" y="5267160"/>
              <a:ext cx="141624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31" name="Group 115"/>
          <p:cNvGrpSpPr/>
          <p:nvPr/>
        </p:nvGrpSpPr>
        <p:grpSpPr>
          <a:xfrm>
            <a:off x="5460840" y="5759280"/>
            <a:ext cx="1793880" cy="600480"/>
            <a:chOff x="5460840" y="5759280"/>
            <a:chExt cx="1793880" cy="600480"/>
          </a:xfrm>
        </p:grpSpPr>
        <p:grpSp>
          <p:nvGrpSpPr>
            <p:cNvPr id="1832" name="Group 116"/>
            <p:cNvGrpSpPr/>
            <p:nvPr/>
          </p:nvGrpSpPr>
          <p:grpSpPr>
            <a:xfrm>
              <a:off x="5897880" y="5759280"/>
              <a:ext cx="1356840" cy="600480"/>
              <a:chOff x="5897880" y="5759280"/>
              <a:chExt cx="1356840" cy="600480"/>
            </a:xfrm>
          </p:grpSpPr>
          <p:grpSp>
            <p:nvGrpSpPr>
              <p:cNvPr id="1833" name="Group 117"/>
              <p:cNvGrpSpPr/>
              <p:nvPr/>
            </p:nvGrpSpPr>
            <p:grpSpPr>
              <a:xfrm>
                <a:off x="5897880" y="5765040"/>
                <a:ext cx="1356840" cy="594720"/>
                <a:chOff x="5897880" y="5765040"/>
                <a:chExt cx="1356840" cy="594720"/>
              </a:xfrm>
            </p:grpSpPr>
            <p:sp>
              <p:nvSpPr>
                <p:cNvPr id="1834" name="Text Box 118"/>
                <p:cNvSpPr/>
                <p:nvPr/>
              </p:nvSpPr>
              <p:spPr>
                <a:xfrm>
                  <a:off x="5897880" y="5765040"/>
                  <a:ext cx="1356840" cy="59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  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he mRNA is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ranslated into a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specific protein.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35" name="AutoShape 119"/>
                <p:cNvSpPr/>
                <p:nvPr/>
              </p:nvSpPr>
              <p:spPr>
                <a:xfrm>
                  <a:off x="5952960" y="5813280"/>
                  <a:ext cx="154080" cy="16380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6" name="Text Box 120"/>
              <p:cNvSpPr/>
              <p:nvPr/>
            </p:nvSpPr>
            <p:spPr>
              <a:xfrm>
                <a:off x="5911560" y="575928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5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37" name="Line 121"/>
            <p:cNvSpPr/>
            <p:nvPr/>
          </p:nvSpPr>
          <p:spPr>
            <a:xfrm flipV="1">
              <a:off x="5889600" y="5830920"/>
              <a:ext cx="0" cy="43344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38" name="Line 122"/>
            <p:cNvSpPr/>
            <p:nvPr/>
          </p:nvSpPr>
          <p:spPr>
            <a:xfrm>
              <a:off x="5460840" y="6056280"/>
              <a:ext cx="428760" cy="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39" name="Group 123"/>
          <p:cNvGrpSpPr/>
          <p:nvPr/>
        </p:nvGrpSpPr>
        <p:grpSpPr>
          <a:xfrm>
            <a:off x="4976640" y="2973240"/>
            <a:ext cx="2648520" cy="778680"/>
            <a:chOff x="4976640" y="2973240"/>
            <a:chExt cx="2648520" cy="778680"/>
          </a:xfrm>
        </p:grpSpPr>
        <p:grpSp>
          <p:nvGrpSpPr>
            <p:cNvPr id="1840" name="Group 124"/>
            <p:cNvGrpSpPr/>
            <p:nvPr/>
          </p:nvGrpSpPr>
          <p:grpSpPr>
            <a:xfrm>
              <a:off x="5948280" y="2973240"/>
              <a:ext cx="1676880" cy="778680"/>
              <a:chOff x="5948280" y="2973240"/>
              <a:chExt cx="1676880" cy="778680"/>
            </a:xfrm>
          </p:grpSpPr>
          <p:grpSp>
            <p:nvGrpSpPr>
              <p:cNvPr id="1841" name="Group 125"/>
              <p:cNvGrpSpPr/>
              <p:nvPr/>
            </p:nvGrpSpPr>
            <p:grpSpPr>
              <a:xfrm>
                <a:off x="5957280" y="2989800"/>
                <a:ext cx="1667880" cy="762120"/>
                <a:chOff x="5957280" y="2989800"/>
                <a:chExt cx="1667880" cy="762120"/>
              </a:xfrm>
            </p:grpSpPr>
            <p:sp>
              <p:nvSpPr>
                <p:cNvPr id="1842" name="AutoShape 126"/>
                <p:cNvSpPr/>
                <p:nvPr/>
              </p:nvSpPr>
              <p:spPr>
                <a:xfrm>
                  <a:off x="6000840" y="3027240"/>
                  <a:ext cx="152280" cy="162000"/>
                </a:xfrm>
                <a:prstGeom prst="flowChartConnector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43" name="Text Box 127"/>
                <p:cNvSpPr/>
                <p:nvPr/>
              </p:nvSpPr>
              <p:spPr>
                <a:xfrm>
                  <a:off x="5957280" y="2989800"/>
                  <a:ext cx="16678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  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estosterone binds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o a receptor protein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in the cytoplasm,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activating it.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4" name="Text Box 128"/>
              <p:cNvSpPr/>
              <p:nvPr/>
            </p:nvSpPr>
            <p:spPr>
              <a:xfrm>
                <a:off x="5948280" y="297324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45" name="Line 129"/>
            <p:cNvSpPr/>
            <p:nvPr/>
          </p:nvSpPr>
          <p:spPr>
            <a:xfrm flipV="1">
              <a:off x="5896080" y="3022200"/>
              <a:ext cx="0" cy="58428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46" name="Line 130"/>
            <p:cNvSpPr/>
            <p:nvPr/>
          </p:nvSpPr>
          <p:spPr>
            <a:xfrm>
              <a:off x="4976640" y="3313080"/>
              <a:ext cx="919440" cy="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47" name="Group 131"/>
          <p:cNvGrpSpPr/>
          <p:nvPr/>
        </p:nvGrpSpPr>
        <p:grpSpPr>
          <a:xfrm>
            <a:off x="4357800" y="3992400"/>
            <a:ext cx="3242520" cy="937800"/>
            <a:chOff x="4357800" y="3992400"/>
            <a:chExt cx="3242520" cy="937800"/>
          </a:xfrm>
        </p:grpSpPr>
        <p:grpSp>
          <p:nvGrpSpPr>
            <p:cNvPr id="1848" name="Group 132"/>
            <p:cNvGrpSpPr/>
            <p:nvPr/>
          </p:nvGrpSpPr>
          <p:grpSpPr>
            <a:xfrm>
              <a:off x="5940000" y="3992400"/>
              <a:ext cx="1660320" cy="937800"/>
              <a:chOff x="5940000" y="3992400"/>
              <a:chExt cx="1660320" cy="937800"/>
            </a:xfrm>
          </p:grpSpPr>
          <p:sp>
            <p:nvSpPr>
              <p:cNvPr id="1849" name="AutoShape 133"/>
              <p:cNvSpPr/>
              <p:nvPr/>
            </p:nvSpPr>
            <p:spPr>
              <a:xfrm>
                <a:off x="5991120" y="4044960"/>
                <a:ext cx="154080" cy="1620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850" name="Group 134"/>
              <p:cNvGrpSpPr/>
              <p:nvPr/>
            </p:nvGrpSpPr>
            <p:grpSpPr>
              <a:xfrm>
                <a:off x="5940000" y="3992400"/>
                <a:ext cx="1660320" cy="937800"/>
                <a:chOff x="5940000" y="3992400"/>
                <a:chExt cx="1660320" cy="937800"/>
              </a:xfrm>
            </p:grpSpPr>
            <p:sp>
              <p:nvSpPr>
                <p:cNvPr id="1851" name="Text Box 135"/>
                <p:cNvSpPr/>
                <p:nvPr/>
              </p:nvSpPr>
              <p:spPr>
                <a:xfrm>
                  <a:off x="5950800" y="4000680"/>
                  <a:ext cx="1649520" cy="92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    </a:t>
                  </a: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The hormone-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receptor complex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enters the nucleus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and binds to specific 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40458c"/>
                      </a:solidFill>
                      <a:latin typeface="Comic Sans MS"/>
                    </a:rPr>
                    <a:t>genes.</a:t>
                  </a:r>
                  <a:endParaRPr b="0" lang="en-US" sz="11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52" name="Text Box 136"/>
                <p:cNvSpPr/>
                <p:nvPr/>
              </p:nvSpPr>
              <p:spPr>
                <a:xfrm>
                  <a:off x="5940000" y="3992400"/>
                  <a:ext cx="271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3</a:t>
                  </a:r>
                  <a:endParaRPr b="0" lang="en-US" sz="12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3" name="Line 137"/>
            <p:cNvSpPr/>
            <p:nvPr/>
          </p:nvSpPr>
          <p:spPr>
            <a:xfrm flipV="1">
              <a:off x="5902200" y="4057200"/>
              <a:ext cx="0" cy="70020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54" name="Line 138"/>
            <p:cNvSpPr/>
            <p:nvPr/>
          </p:nvSpPr>
          <p:spPr>
            <a:xfrm>
              <a:off x="4357800" y="4398840"/>
              <a:ext cx="1544400" cy="0"/>
            </a:xfrm>
            <a:prstGeom prst="line">
              <a:avLst/>
            </a:prstGeom>
            <a:ln w="255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55" name="TextBox 1"/>
          <p:cNvSpPr/>
          <p:nvPr/>
        </p:nvSpPr>
        <p:spPr>
          <a:xfrm>
            <a:off x="609480" y="288756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004d"/>
                </a:solidFill>
                <a:latin typeface="Arial"/>
              </a:rPr>
              <a:t>Why can the signal molecule meet its target INSIDE the cell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Communication Methods</a:t>
            </a: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ell-to-cell contact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Local signaling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Long distance signaling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Significa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7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nicellular and multicellular cell communication have similariti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east cells signal for sexual reproduction through signal transduction process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 secrete molecules to sense density of own population.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Quorum Sensing </a:t>
            </a:r>
            <a:r>
              <a:rPr b="1" i="1" lang="en-US" sz="2000" spc="-1" strike="noStrike">
                <a:solidFill>
                  <a:srgbClr val="40458c"/>
                </a:solidFill>
                <a:latin typeface="Arial"/>
              </a:rPr>
              <a:t>(survival purpose)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858" name="TextBox 1"/>
          <p:cNvSpPr/>
          <p:nvPr/>
        </p:nvSpPr>
        <p:spPr>
          <a:xfrm>
            <a:off x="2362320" y="5715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TEDED on Quorum Sensing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3504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Cell-to-Cell Communications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4520" indent="-32904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ell junctions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directly connect the cytoplasm of adjacent cell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28280" indent="-27432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: cardiac cells for rhythmicity; plamodesmata between plant cel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4520" indent="-32904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urface receptors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can give/send information 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728280" indent="-27432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x: specific immune respons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05" name="Group 17"/>
          <p:cNvGrpSpPr/>
          <p:nvPr/>
        </p:nvGrpSpPr>
        <p:grpSpPr>
          <a:xfrm>
            <a:off x="304920" y="4312800"/>
            <a:ext cx="4216320" cy="2102400"/>
            <a:chOff x="304920" y="4312800"/>
            <a:chExt cx="4216320" cy="2102400"/>
          </a:xfrm>
        </p:grpSpPr>
        <p:pic>
          <p:nvPicPr>
            <p:cNvPr id="1406" name="Picture 8" descr=""/>
            <p:cNvPicPr/>
            <p:nvPr/>
          </p:nvPicPr>
          <p:blipFill>
            <a:blip r:embed="rId1"/>
            <a:stretch/>
          </p:blipFill>
          <p:spPr>
            <a:xfrm>
              <a:off x="304920" y="4662000"/>
              <a:ext cx="1978560" cy="12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Picture 9" descr=""/>
            <p:cNvPicPr/>
            <p:nvPr/>
          </p:nvPicPr>
          <p:blipFill>
            <a:blip r:embed="rId2"/>
            <a:stretch/>
          </p:blipFill>
          <p:spPr>
            <a:xfrm>
              <a:off x="2481840" y="4664160"/>
              <a:ext cx="20394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8" name="Text Box 10"/>
            <p:cNvSpPr/>
            <p:nvPr/>
          </p:nvSpPr>
          <p:spPr>
            <a:xfrm>
              <a:off x="1535040" y="4312800"/>
              <a:ext cx="161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Plasma membrane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09" name="Text Box 11"/>
            <p:cNvSpPr/>
            <p:nvPr/>
          </p:nvSpPr>
          <p:spPr>
            <a:xfrm>
              <a:off x="2591280" y="5949360"/>
              <a:ext cx="1666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Plasmodesmata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between plant cell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10" name="Text Box 12"/>
            <p:cNvSpPr/>
            <p:nvPr/>
          </p:nvSpPr>
          <p:spPr>
            <a:xfrm>
              <a:off x="596520" y="5957640"/>
              <a:ext cx="1792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Gap junction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between animal cell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11" name="Line 13"/>
            <p:cNvSpPr/>
            <p:nvPr/>
          </p:nvSpPr>
          <p:spPr>
            <a:xfrm>
              <a:off x="2318400" y="4515120"/>
              <a:ext cx="190080" cy="2030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12" name="Line 14"/>
            <p:cNvSpPr/>
            <p:nvPr/>
          </p:nvSpPr>
          <p:spPr>
            <a:xfrm flipH="1">
              <a:off x="2126160" y="4515120"/>
              <a:ext cx="192240" cy="3553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413" name="Picture 13" descr=""/>
          <p:cNvPicPr/>
          <p:nvPr/>
        </p:nvPicPr>
        <p:blipFill>
          <a:blip r:embed="rId3"/>
          <a:stretch/>
        </p:blipFill>
        <p:spPr>
          <a:xfrm>
            <a:off x="4800600" y="4449600"/>
            <a:ext cx="4191120" cy="1954440"/>
          </a:xfrm>
          <a:prstGeom prst="rect">
            <a:avLst/>
          </a:prstGeom>
          <a:ln w="0">
            <a:noFill/>
          </a:ln>
        </p:spPr>
      </p:pic>
      <p:sp>
        <p:nvSpPr>
          <p:cNvPr id="1414" name="TextBox 2"/>
          <p:cNvSpPr/>
          <p:nvPr/>
        </p:nvSpPr>
        <p:spPr>
          <a:xfrm>
            <a:off x="75438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4"/>
              </a:rPr>
              <a:t>VIDE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Local Signal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838080" y="125208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djacent cells are signaled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hemical messengers released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Ex: Neurotransmitters via neurons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417" name="Group 28"/>
          <p:cNvGrpSpPr/>
          <p:nvPr/>
        </p:nvGrpSpPr>
        <p:grpSpPr>
          <a:xfrm>
            <a:off x="990720" y="2434680"/>
            <a:ext cx="6685200" cy="4239360"/>
            <a:chOff x="990720" y="2434680"/>
            <a:chExt cx="6685200" cy="4239360"/>
          </a:xfrm>
        </p:grpSpPr>
        <p:pic>
          <p:nvPicPr>
            <p:cNvPr id="1418" name="Picture 22" descr=""/>
            <p:cNvPicPr/>
            <p:nvPr/>
          </p:nvPicPr>
          <p:blipFill>
            <a:blip r:embed="rId1"/>
            <a:stretch/>
          </p:blipFill>
          <p:spPr>
            <a:xfrm>
              <a:off x="1091160" y="2827800"/>
              <a:ext cx="6500160" cy="29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9" name="Text Box 5"/>
            <p:cNvSpPr/>
            <p:nvPr/>
          </p:nvSpPr>
          <p:spPr>
            <a:xfrm>
              <a:off x="990720" y="5820120"/>
              <a:ext cx="32716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(a) Paracrine signaling.</a:t>
              </a: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A secreting cell acts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on nearby target cells by discharging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molecules of a local regulator (a growth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factor, for example) into the extracellular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fluid.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0" name="Text Box 6"/>
            <p:cNvSpPr/>
            <p:nvPr/>
          </p:nvSpPr>
          <p:spPr>
            <a:xfrm>
              <a:off x="4531680" y="5798520"/>
              <a:ext cx="2576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(b) Synaptic signaling.</a:t>
              </a: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A nerve cell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releases neurotransmitter molecules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into a synapse, stimulating the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target cell.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1" name="Text Box 7"/>
            <p:cNvSpPr/>
            <p:nvPr/>
          </p:nvSpPr>
          <p:spPr>
            <a:xfrm>
              <a:off x="1171440" y="5219280"/>
              <a:ext cx="12196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Local regulator 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diffuses through 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extracellular flui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2" name="Line 8"/>
            <p:cNvSpPr/>
            <p:nvPr/>
          </p:nvSpPr>
          <p:spPr>
            <a:xfrm>
              <a:off x="1621800" y="5045400"/>
              <a:ext cx="100440" cy="1735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3" name="Line 9"/>
            <p:cNvSpPr/>
            <p:nvPr/>
          </p:nvSpPr>
          <p:spPr>
            <a:xfrm>
              <a:off x="1837440" y="4204080"/>
              <a:ext cx="25812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4" name="Text Box 10"/>
            <p:cNvSpPr/>
            <p:nvPr/>
          </p:nvSpPr>
          <p:spPr>
            <a:xfrm>
              <a:off x="3240360" y="2882160"/>
              <a:ext cx="803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Target cel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5" name="Line 11"/>
            <p:cNvSpPr/>
            <p:nvPr/>
          </p:nvSpPr>
          <p:spPr>
            <a:xfrm>
              <a:off x="3602160" y="3108240"/>
              <a:ext cx="0" cy="1602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6" name="Text Box 12"/>
            <p:cNvSpPr/>
            <p:nvPr/>
          </p:nvSpPr>
          <p:spPr>
            <a:xfrm>
              <a:off x="3448800" y="406512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Secretory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vesicl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7" name="Line 13"/>
            <p:cNvSpPr/>
            <p:nvPr/>
          </p:nvSpPr>
          <p:spPr>
            <a:xfrm>
              <a:off x="3114000" y="4204080"/>
              <a:ext cx="27288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8" name="Text Box 14"/>
            <p:cNvSpPr/>
            <p:nvPr/>
          </p:nvSpPr>
          <p:spPr>
            <a:xfrm>
              <a:off x="6333840" y="2899080"/>
              <a:ext cx="1273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Electrical signa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along nerve cel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triggers release of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neurotransmitter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29" name="Line 15"/>
            <p:cNvSpPr/>
            <p:nvPr/>
          </p:nvSpPr>
          <p:spPr>
            <a:xfrm flipH="1">
              <a:off x="5941080" y="3054960"/>
              <a:ext cx="344160" cy="6944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0" name="Text Box 16"/>
            <p:cNvSpPr/>
            <p:nvPr/>
          </p:nvSpPr>
          <p:spPr>
            <a:xfrm>
              <a:off x="6444000" y="3966840"/>
              <a:ext cx="1231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Neurotransmitter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</a:t>
              </a: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diffuses across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synap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1" name="Line 17"/>
            <p:cNvSpPr/>
            <p:nvPr/>
          </p:nvSpPr>
          <p:spPr>
            <a:xfrm>
              <a:off x="6070320" y="4070160"/>
              <a:ext cx="30096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2" name="Text Box 18"/>
            <p:cNvSpPr/>
            <p:nvPr/>
          </p:nvSpPr>
          <p:spPr>
            <a:xfrm>
              <a:off x="5405040" y="5388120"/>
              <a:ext cx="945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Target cel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is stimulate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3" name="Line 19"/>
            <p:cNvSpPr/>
            <p:nvPr/>
          </p:nvSpPr>
          <p:spPr>
            <a:xfrm>
              <a:off x="5783040" y="5272560"/>
              <a:ext cx="0" cy="1602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4" name="Text Box 20"/>
            <p:cNvSpPr/>
            <p:nvPr/>
          </p:nvSpPr>
          <p:spPr>
            <a:xfrm>
              <a:off x="3867840" y="2434680"/>
              <a:ext cx="1064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Local signaling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435" name="Picture 21" descr=""/>
            <p:cNvPicPr/>
            <p:nvPr/>
          </p:nvPicPr>
          <p:blipFill>
            <a:blip r:embed="rId2"/>
            <a:stretch/>
          </p:blipFill>
          <p:spPr>
            <a:xfrm>
              <a:off x="1119960" y="2670840"/>
              <a:ext cx="645696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6" name="TextBox 2"/>
          <p:cNvSpPr/>
          <p:nvPr/>
        </p:nvSpPr>
        <p:spPr>
          <a:xfrm>
            <a:off x="6970680" y="685800"/>
            <a:ext cx="20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hlinkClick r:id="rId3"/>
              </a:rPr>
              <a:t>VIDE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636480" y="60912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Yeast Sexual Reproduction</a:t>
            </a:r>
            <a:endParaRPr b="1" lang="en-US" sz="4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438" name="Group 34"/>
          <p:cNvGrpSpPr/>
          <p:nvPr/>
        </p:nvGrpSpPr>
        <p:grpSpPr>
          <a:xfrm>
            <a:off x="3808440" y="1725480"/>
            <a:ext cx="4882320" cy="4598280"/>
            <a:chOff x="3808440" y="1725480"/>
            <a:chExt cx="4882320" cy="4598280"/>
          </a:xfrm>
        </p:grpSpPr>
        <p:sp>
          <p:nvSpPr>
            <p:cNvPr id="1439" name="Text Box 5"/>
            <p:cNvSpPr/>
            <p:nvPr/>
          </p:nvSpPr>
          <p:spPr>
            <a:xfrm>
              <a:off x="7209000" y="1795680"/>
              <a:ext cx="83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facto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440" name="Picture 6" descr=""/>
            <p:cNvPicPr/>
            <p:nvPr/>
          </p:nvPicPr>
          <p:blipFill>
            <a:blip r:embed="rId1"/>
            <a:stretch/>
          </p:blipFill>
          <p:spPr>
            <a:xfrm>
              <a:off x="5541480" y="2147760"/>
              <a:ext cx="2790720" cy="411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Text Box 7"/>
            <p:cNvSpPr/>
            <p:nvPr/>
          </p:nvSpPr>
          <p:spPr>
            <a:xfrm>
              <a:off x="5915880" y="1956600"/>
              <a:ext cx="937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Recepto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42" name="Line 8"/>
            <p:cNvSpPr/>
            <p:nvPr/>
          </p:nvSpPr>
          <p:spPr>
            <a:xfrm flipH="1">
              <a:off x="7133400" y="2039040"/>
              <a:ext cx="140400" cy="1188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43" name="Line 9"/>
            <p:cNvSpPr/>
            <p:nvPr/>
          </p:nvSpPr>
          <p:spPr>
            <a:xfrm>
              <a:off x="6492960" y="2206800"/>
              <a:ext cx="115920" cy="1890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44" name="Rectangle 10"/>
            <p:cNvSpPr/>
            <p:nvPr/>
          </p:nvSpPr>
          <p:spPr>
            <a:xfrm>
              <a:off x="4141440" y="3178080"/>
              <a:ext cx="2030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45" name="Text Box 11"/>
            <p:cNvSpPr/>
            <p:nvPr/>
          </p:nvSpPr>
          <p:spPr>
            <a:xfrm>
              <a:off x="3956040" y="1795320"/>
              <a:ext cx="1590120" cy="17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Exchange of</a:t>
              </a:r>
              <a:br>
                <a:rPr sz="1200"/>
              </a:b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      mating factors.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Each cell typ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secretes a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mating factor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hat binds to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ceptors on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he other cell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ype.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446" name="Group 12"/>
            <p:cNvGrpSpPr/>
            <p:nvPr/>
          </p:nvGrpSpPr>
          <p:grpSpPr>
            <a:xfrm>
              <a:off x="3830760" y="1725480"/>
              <a:ext cx="287280" cy="305640"/>
              <a:chOff x="3830760" y="1725480"/>
              <a:chExt cx="287280" cy="305640"/>
            </a:xfrm>
          </p:grpSpPr>
          <p:sp>
            <p:nvSpPr>
              <p:cNvPr id="1447" name="AutoShape 13"/>
              <p:cNvSpPr/>
              <p:nvPr/>
            </p:nvSpPr>
            <p:spPr>
              <a:xfrm>
                <a:off x="3853440" y="1774080"/>
                <a:ext cx="225360" cy="18972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48" name="Text Box 14"/>
              <p:cNvSpPr/>
              <p:nvPr/>
            </p:nvSpPr>
            <p:spPr>
              <a:xfrm>
                <a:off x="3830760" y="1725480"/>
                <a:ext cx="287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ffffff"/>
                    </a:solidFill>
                    <a:uFillTx/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449" name="Text Box 15"/>
            <p:cNvSpPr/>
            <p:nvPr/>
          </p:nvSpPr>
          <p:spPr>
            <a:xfrm>
              <a:off x="3928320" y="3705120"/>
              <a:ext cx="161748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     </a:t>
              </a: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Mating.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Binding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of the factors to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   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receptors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nduces changes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    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n the cells that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    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lead to their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     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fusion.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50" name="Text Box 16"/>
            <p:cNvSpPr/>
            <p:nvPr/>
          </p:nvSpPr>
          <p:spPr>
            <a:xfrm>
              <a:off x="3928680" y="5136120"/>
              <a:ext cx="15199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     </a:t>
              </a: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New a/</a:t>
              </a:r>
              <a:r>
                <a:rPr b="1" lang="en-US" sz="12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r>
                <a:rPr b="1" lang="en-US" sz="1200" spc="-1" strike="noStrike">
                  <a:solidFill>
                    <a:srgbClr val="40458c"/>
                  </a:solidFill>
                  <a:latin typeface="Comic Sans MS"/>
                </a:rPr>
                <a:t> cell.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he nucleus of 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the fused cell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includes all th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genes from th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  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mic Sans MS"/>
                </a:rPr>
                <a:t>a and a cells.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451" name="Group 17"/>
            <p:cNvGrpSpPr/>
            <p:nvPr/>
          </p:nvGrpSpPr>
          <p:grpSpPr>
            <a:xfrm>
              <a:off x="3808440" y="3641760"/>
              <a:ext cx="287280" cy="305640"/>
              <a:chOff x="3808440" y="3641760"/>
              <a:chExt cx="287280" cy="305640"/>
            </a:xfrm>
          </p:grpSpPr>
          <p:sp>
            <p:nvSpPr>
              <p:cNvPr id="1452" name="AutoShape 18"/>
              <p:cNvSpPr/>
              <p:nvPr/>
            </p:nvSpPr>
            <p:spPr>
              <a:xfrm>
                <a:off x="3829680" y="3690000"/>
                <a:ext cx="225360" cy="19008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53" name="Text Box 19"/>
              <p:cNvSpPr/>
              <p:nvPr/>
            </p:nvSpPr>
            <p:spPr>
              <a:xfrm>
                <a:off x="3808440" y="3641760"/>
                <a:ext cx="287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ffffff"/>
                    </a:solidFill>
                    <a:uFillTx/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454" name="Group 20"/>
            <p:cNvGrpSpPr/>
            <p:nvPr/>
          </p:nvGrpSpPr>
          <p:grpSpPr>
            <a:xfrm>
              <a:off x="3818520" y="5095800"/>
              <a:ext cx="287280" cy="305640"/>
              <a:chOff x="3818520" y="5095800"/>
              <a:chExt cx="287280" cy="305640"/>
            </a:xfrm>
          </p:grpSpPr>
          <p:sp>
            <p:nvSpPr>
              <p:cNvPr id="1455" name="AutoShape 21"/>
              <p:cNvSpPr/>
              <p:nvPr/>
            </p:nvSpPr>
            <p:spPr>
              <a:xfrm>
                <a:off x="3841200" y="5146920"/>
                <a:ext cx="224640" cy="1908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56" name="Text Box 22"/>
              <p:cNvSpPr/>
              <p:nvPr/>
            </p:nvSpPr>
            <p:spPr>
              <a:xfrm>
                <a:off x="3818520" y="5095800"/>
                <a:ext cx="287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ffffff"/>
                    </a:solidFill>
                    <a:uFillTx/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457" name="Text Box 23"/>
            <p:cNvSpPr/>
            <p:nvPr/>
          </p:nvSpPr>
          <p:spPr>
            <a:xfrm>
              <a:off x="6570360" y="3189240"/>
              <a:ext cx="83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facto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58" name="Line 24"/>
            <p:cNvSpPr/>
            <p:nvPr/>
          </p:nvSpPr>
          <p:spPr>
            <a:xfrm>
              <a:off x="6912720" y="3161160"/>
              <a:ext cx="69120" cy="1188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59" name="Text Box 25"/>
            <p:cNvSpPr/>
            <p:nvPr/>
          </p:nvSpPr>
          <p:spPr>
            <a:xfrm>
              <a:off x="5366520" y="3283920"/>
              <a:ext cx="1346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Yeast cell,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mating type </a:t>
              </a: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0" name="Text Box 26"/>
            <p:cNvSpPr/>
            <p:nvPr/>
          </p:nvSpPr>
          <p:spPr>
            <a:xfrm>
              <a:off x="7340040" y="3280320"/>
              <a:ext cx="1350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Yeast cell,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mating type </a:t>
              </a: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1" name="Text Box 27"/>
            <p:cNvSpPr/>
            <p:nvPr/>
          </p:nvSpPr>
          <p:spPr>
            <a:xfrm>
              <a:off x="7639200" y="2534400"/>
              <a:ext cx="29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2" name="Text Box 28"/>
            <p:cNvSpPr/>
            <p:nvPr/>
          </p:nvSpPr>
          <p:spPr>
            <a:xfrm>
              <a:off x="7500600" y="4242960"/>
              <a:ext cx="29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3" name="Text Box 29"/>
            <p:cNvSpPr/>
            <p:nvPr/>
          </p:nvSpPr>
          <p:spPr>
            <a:xfrm>
              <a:off x="6826680" y="5567760"/>
              <a:ext cx="47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a/</a:t>
              </a:r>
              <a:r>
                <a:rPr b="1" lang="en-US" sz="1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4" name="Text Box 30"/>
            <p:cNvSpPr/>
            <p:nvPr/>
          </p:nvSpPr>
          <p:spPr>
            <a:xfrm>
              <a:off x="6011280" y="252612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5" name="Text Box 31"/>
            <p:cNvSpPr/>
            <p:nvPr/>
          </p:nvSpPr>
          <p:spPr>
            <a:xfrm>
              <a:off x="6264360" y="426312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66" name="TextBox 1"/>
          <p:cNvSpPr/>
          <p:nvPr/>
        </p:nvSpPr>
        <p:spPr>
          <a:xfrm>
            <a:off x="612720" y="230976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Yeast cells identify their mates by cell signaling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Long Distance Signaling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0" indent="-45720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Use of </a:t>
            </a:r>
            <a:r>
              <a:rPr b="1" lang="en-US" sz="3200" spc="-1" strike="noStrike" u="sng">
                <a:solidFill>
                  <a:srgbClr val="0f116a"/>
                </a:solidFill>
                <a:uFillTx/>
                <a:latin typeface="Arial"/>
              </a:rPr>
              <a:t>hormone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925560" indent="-457200"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Both plants and animal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92556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use hormones (e.g. Insulin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525600" indent="-45720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affect many cells in 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92556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ther parts of the 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525600" indent="-45720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tein or Steroid typ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469" name="Group 18"/>
          <p:cNvGrpSpPr/>
          <p:nvPr/>
        </p:nvGrpSpPr>
        <p:grpSpPr>
          <a:xfrm>
            <a:off x="4825080" y="1974600"/>
            <a:ext cx="4318560" cy="4699440"/>
            <a:chOff x="4825080" y="1974600"/>
            <a:chExt cx="4318560" cy="4699440"/>
          </a:xfrm>
        </p:grpSpPr>
        <p:pic>
          <p:nvPicPr>
            <p:cNvPr id="1470" name="Picture 5" descr=""/>
            <p:cNvPicPr/>
            <p:nvPr/>
          </p:nvPicPr>
          <p:blipFill>
            <a:blip r:embed="rId1"/>
            <a:stretch/>
          </p:blipFill>
          <p:spPr>
            <a:xfrm>
              <a:off x="6039360" y="2278080"/>
              <a:ext cx="3104280" cy="35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Text Box 6"/>
            <p:cNvSpPr/>
            <p:nvPr/>
          </p:nvSpPr>
          <p:spPr>
            <a:xfrm>
              <a:off x="7407000" y="3851640"/>
              <a:ext cx="1183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Hormone travels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in bloodstream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to target cells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2" name="Text Box 7"/>
            <p:cNvSpPr/>
            <p:nvPr/>
          </p:nvSpPr>
          <p:spPr>
            <a:xfrm>
              <a:off x="6038280" y="5796720"/>
              <a:ext cx="242064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1" lang="en-US" sz="1000" spc="-1" strike="noStrike">
                  <a:solidFill>
                    <a:srgbClr val="40458c"/>
                  </a:solidFill>
                  <a:latin typeface="Comic Sans MS"/>
                </a:rPr>
                <a:t>(c) Hormonal signaling.</a:t>
              </a: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Specialized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 endocrine cells secrete hormones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 into body fluids, often the blood.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 Hormones may reach virtually all </a:t>
              </a:r>
              <a:br>
                <a:rPr sz="1000"/>
              </a:b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      body cells.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3" name="Text Box 8"/>
            <p:cNvSpPr/>
            <p:nvPr/>
          </p:nvSpPr>
          <p:spPr>
            <a:xfrm>
              <a:off x="6401160" y="1974600"/>
              <a:ext cx="1594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Long-distance signaling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4" name="Line 9"/>
            <p:cNvSpPr/>
            <p:nvPr/>
          </p:nvSpPr>
          <p:spPr>
            <a:xfrm>
              <a:off x="6544440" y="2570040"/>
              <a:ext cx="88200" cy="1396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5" name="Text Box 10"/>
            <p:cNvSpPr/>
            <p:nvPr/>
          </p:nvSpPr>
          <p:spPr>
            <a:xfrm>
              <a:off x="7872840" y="2304720"/>
              <a:ext cx="546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Bloo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vesse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6" name="Line 11"/>
            <p:cNvSpPr/>
            <p:nvPr/>
          </p:nvSpPr>
          <p:spPr>
            <a:xfrm flipV="1">
              <a:off x="7719840" y="2455560"/>
              <a:ext cx="207360" cy="1141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7" name="Text Box 12"/>
            <p:cNvSpPr/>
            <p:nvPr/>
          </p:nvSpPr>
          <p:spPr>
            <a:xfrm>
              <a:off x="6568200" y="4727160"/>
              <a:ext cx="573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Target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cel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8" name="Line 13"/>
            <p:cNvSpPr/>
            <p:nvPr/>
          </p:nvSpPr>
          <p:spPr>
            <a:xfrm>
              <a:off x="7096680" y="4856040"/>
              <a:ext cx="41508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79" name="Text Box 14"/>
            <p:cNvSpPr/>
            <p:nvPr/>
          </p:nvSpPr>
          <p:spPr>
            <a:xfrm>
              <a:off x="6090120" y="2339640"/>
              <a:ext cx="1010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Comic Sans MS"/>
                </a:rPr>
                <a:t>Endocrine cell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80" name="Text Box 16"/>
            <p:cNvSpPr/>
            <p:nvPr/>
          </p:nvSpPr>
          <p:spPr>
            <a:xfrm>
              <a:off x="4825080" y="6368400"/>
              <a:ext cx="131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Figure 11.4 C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How Does it Work?</a:t>
            </a: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Signal Transduction Pathways</a:t>
            </a: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694"/>
                </a:solidFill>
                <a:latin typeface="Arial"/>
              </a:rPr>
              <a:t>Convert signals on a cell’s surface into cellular response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694"/>
                </a:solidFill>
                <a:latin typeface="Arial"/>
              </a:rPr>
              <a:t>Are similar in microbes and mammals, suggesting an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early origi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83" name="Picture 4" descr="http://www.temple.edu/stl/images/SignalTransduction.jpg"/>
          <p:cNvPicPr/>
          <p:nvPr/>
        </p:nvPicPr>
        <p:blipFill>
          <a:blip r:embed="rId1"/>
          <a:stretch/>
        </p:blipFill>
        <p:spPr>
          <a:xfrm>
            <a:off x="2514600" y="4267080"/>
            <a:ext cx="48006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Group 33"/>
          <p:cNvGrpSpPr/>
          <p:nvPr/>
        </p:nvGrpSpPr>
        <p:grpSpPr>
          <a:xfrm>
            <a:off x="457200" y="1638360"/>
            <a:ext cx="8305920" cy="4231080"/>
            <a:chOff x="457200" y="1638360"/>
            <a:chExt cx="8305920" cy="4231080"/>
          </a:xfrm>
        </p:grpSpPr>
        <p:grpSp>
          <p:nvGrpSpPr>
            <p:cNvPr id="1485" name="Group 30"/>
            <p:cNvGrpSpPr/>
            <p:nvPr/>
          </p:nvGrpSpPr>
          <p:grpSpPr>
            <a:xfrm>
              <a:off x="457200" y="1638360"/>
              <a:ext cx="8305920" cy="3840120"/>
              <a:chOff x="457200" y="1638360"/>
              <a:chExt cx="8305920" cy="3840120"/>
            </a:xfrm>
          </p:grpSpPr>
          <p:pic>
            <p:nvPicPr>
              <p:cNvPr id="1486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638360"/>
                <a:ext cx="8305920" cy="384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7" name="Text Box 6"/>
              <p:cNvSpPr/>
              <p:nvPr/>
            </p:nvSpPr>
            <p:spPr>
              <a:xfrm>
                <a:off x="497520" y="1694880"/>
                <a:ext cx="15613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EXTRACELLULAR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FLUID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88" name="Text Box 7"/>
              <p:cNvSpPr/>
              <p:nvPr/>
            </p:nvSpPr>
            <p:spPr>
              <a:xfrm>
                <a:off x="461160" y="2909520"/>
                <a:ext cx="937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Receptor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89" name="Line 8"/>
              <p:cNvSpPr/>
              <p:nvPr/>
            </p:nvSpPr>
            <p:spPr>
              <a:xfrm>
                <a:off x="1272600" y="3162240"/>
                <a:ext cx="222480" cy="22860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0" name="Text Box 9"/>
              <p:cNvSpPr/>
              <p:nvPr/>
            </p:nvSpPr>
            <p:spPr>
              <a:xfrm>
                <a:off x="545760" y="4793760"/>
                <a:ext cx="9471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Signal 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molecule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1" name="Text Box 10"/>
              <p:cNvSpPr/>
              <p:nvPr/>
            </p:nvSpPr>
            <p:spPr>
              <a:xfrm>
                <a:off x="2583360" y="4014360"/>
                <a:ext cx="4336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Relay molecules in a signal transduction pathway 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2" name="Text Box 11"/>
              <p:cNvSpPr/>
              <p:nvPr/>
            </p:nvSpPr>
            <p:spPr>
              <a:xfrm>
                <a:off x="2896560" y="1944360"/>
                <a:ext cx="1764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Plasma membrane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3" name="Line 12"/>
              <p:cNvSpPr/>
              <p:nvPr/>
            </p:nvSpPr>
            <p:spPr>
              <a:xfrm>
                <a:off x="2212200" y="2095560"/>
                <a:ext cx="815400" cy="0"/>
              </a:xfrm>
              <a:prstGeom prst="line">
                <a:avLst/>
              </a:prstGeom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4" name="Text Box 13"/>
              <p:cNvSpPr/>
              <p:nvPr/>
            </p:nvSpPr>
            <p:spPr>
              <a:xfrm>
                <a:off x="5753520" y="1728360"/>
                <a:ext cx="1210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CYTOPLASM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95" name="Text Box 14"/>
              <p:cNvSpPr/>
              <p:nvPr/>
            </p:nvSpPr>
            <p:spPr>
              <a:xfrm>
                <a:off x="7405920" y="3267720"/>
                <a:ext cx="10126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Activation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of cellular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Comic Sans MS"/>
                  </a:rPr>
                  <a:t>response</a:t>
                </a:r>
                <a:endParaRPr b="0" lang="en-US" sz="1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496" name="Text Box 31"/>
            <p:cNvSpPr/>
            <p:nvPr/>
          </p:nvSpPr>
          <p:spPr>
            <a:xfrm>
              <a:off x="3962520" y="5563800"/>
              <a:ext cx="1155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Comic Sans MS"/>
                </a:rPr>
                <a:t>Figure 11.5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97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3 Phases of Signal Transduction</a:t>
            </a:r>
            <a:endParaRPr b="1" lang="en-US" sz="3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498" name="Group 49"/>
          <p:cNvGrpSpPr/>
          <p:nvPr/>
        </p:nvGrpSpPr>
        <p:grpSpPr>
          <a:xfrm>
            <a:off x="1107720" y="2477520"/>
            <a:ext cx="1221840" cy="305640"/>
            <a:chOff x="1107720" y="2477520"/>
            <a:chExt cx="1221840" cy="305640"/>
          </a:xfrm>
        </p:grpSpPr>
        <p:sp>
          <p:nvSpPr>
            <p:cNvPr id="1499" name="Text Box 50"/>
            <p:cNvSpPr/>
            <p:nvPr/>
          </p:nvSpPr>
          <p:spPr>
            <a:xfrm>
              <a:off x="1309320" y="2477520"/>
              <a:ext cx="1020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Reception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00" name="Group 51"/>
            <p:cNvGrpSpPr/>
            <p:nvPr/>
          </p:nvGrpSpPr>
          <p:grpSpPr>
            <a:xfrm>
              <a:off x="1107720" y="2490120"/>
              <a:ext cx="271800" cy="275040"/>
              <a:chOff x="1107720" y="2490120"/>
              <a:chExt cx="271800" cy="275040"/>
            </a:xfrm>
          </p:grpSpPr>
          <p:sp>
            <p:nvSpPr>
              <p:cNvPr id="1501" name="AutoShape 52"/>
              <p:cNvSpPr/>
              <p:nvPr/>
            </p:nvSpPr>
            <p:spPr>
              <a:xfrm>
                <a:off x="1123560" y="2511000"/>
                <a:ext cx="228240" cy="2286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02" name="Text Box 53"/>
              <p:cNvSpPr/>
              <p:nvPr/>
            </p:nvSpPr>
            <p:spPr>
              <a:xfrm>
                <a:off x="1107720" y="249012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1503" name="Group 54"/>
          <p:cNvGrpSpPr/>
          <p:nvPr/>
        </p:nvGrpSpPr>
        <p:grpSpPr>
          <a:xfrm>
            <a:off x="3954240" y="2477520"/>
            <a:ext cx="1496160" cy="305640"/>
            <a:chOff x="3954240" y="2477520"/>
            <a:chExt cx="1496160" cy="305640"/>
          </a:xfrm>
        </p:grpSpPr>
        <p:sp>
          <p:nvSpPr>
            <p:cNvPr id="1504" name="Text Box 55"/>
            <p:cNvSpPr/>
            <p:nvPr/>
          </p:nvSpPr>
          <p:spPr>
            <a:xfrm>
              <a:off x="4165200" y="2477520"/>
              <a:ext cx="1285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Transduction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05" name="Group 56"/>
            <p:cNvGrpSpPr/>
            <p:nvPr/>
          </p:nvGrpSpPr>
          <p:grpSpPr>
            <a:xfrm>
              <a:off x="3954240" y="2490120"/>
              <a:ext cx="271800" cy="275040"/>
              <a:chOff x="3954240" y="2490120"/>
              <a:chExt cx="271800" cy="275040"/>
            </a:xfrm>
          </p:grpSpPr>
          <p:sp>
            <p:nvSpPr>
              <p:cNvPr id="1506" name="AutoShape 57"/>
              <p:cNvSpPr/>
              <p:nvPr/>
            </p:nvSpPr>
            <p:spPr>
              <a:xfrm>
                <a:off x="3970080" y="2511000"/>
                <a:ext cx="228600" cy="2286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07" name="Text Box 58"/>
              <p:cNvSpPr/>
              <p:nvPr/>
            </p:nvSpPr>
            <p:spPr>
              <a:xfrm>
                <a:off x="3954240" y="249012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1508" name="Group 59"/>
          <p:cNvGrpSpPr/>
          <p:nvPr/>
        </p:nvGrpSpPr>
        <p:grpSpPr>
          <a:xfrm>
            <a:off x="7345080" y="2477520"/>
            <a:ext cx="1207800" cy="305640"/>
            <a:chOff x="7345080" y="2477520"/>
            <a:chExt cx="1207800" cy="305640"/>
          </a:xfrm>
        </p:grpSpPr>
        <p:sp>
          <p:nvSpPr>
            <p:cNvPr id="1509" name="Text Box 60"/>
            <p:cNvSpPr/>
            <p:nvPr/>
          </p:nvSpPr>
          <p:spPr>
            <a:xfrm>
              <a:off x="7557120" y="2477520"/>
              <a:ext cx="995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Comic Sans MS"/>
                </a:rPr>
                <a:t>Respons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10" name="Group 61"/>
            <p:cNvGrpSpPr/>
            <p:nvPr/>
          </p:nvGrpSpPr>
          <p:grpSpPr>
            <a:xfrm>
              <a:off x="7345080" y="2490120"/>
              <a:ext cx="271800" cy="275040"/>
              <a:chOff x="7345080" y="2490120"/>
              <a:chExt cx="271800" cy="275040"/>
            </a:xfrm>
          </p:grpSpPr>
          <p:sp>
            <p:nvSpPr>
              <p:cNvPr id="1511" name="AutoShape 62"/>
              <p:cNvSpPr/>
              <p:nvPr/>
            </p:nvSpPr>
            <p:spPr>
              <a:xfrm>
                <a:off x="7360920" y="2511000"/>
                <a:ext cx="228240" cy="228600"/>
              </a:xfrm>
              <a:prstGeom prst="flowChartConnector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12" name="Text Box 63"/>
              <p:cNvSpPr/>
              <p:nvPr/>
            </p:nvSpPr>
            <p:spPr>
              <a:xfrm>
                <a:off x="7345080" y="2490120"/>
                <a:ext cx="271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3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4944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Step One - Reception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474840" y="1295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Reception occurs when 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gnal molecule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ligand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) binds to 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ceptor protein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-272880">
              <a:buClr>
                <a:srgbClr val="ecd88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Ligand and receptor have a unique bond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15" name="Picture 5" descr="http://www.uic.edu/classes/bios/bios100/mike/spring2003/signaltrans02.jpg"/>
          <p:cNvPicPr/>
          <p:nvPr/>
        </p:nvPicPr>
        <p:blipFill>
          <a:blip r:embed="rId1"/>
          <a:stretch/>
        </p:blipFill>
        <p:spPr>
          <a:xfrm>
            <a:off x="533520" y="3452760"/>
            <a:ext cx="5257800" cy="236232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  <p:pic>
        <p:nvPicPr>
          <p:cNvPr id="1516" name="Picture 5" descr=""/>
          <p:cNvPicPr/>
          <p:nvPr/>
        </p:nvPicPr>
        <p:blipFill>
          <a:blip r:embed="rId2"/>
          <a:stretch/>
        </p:blipFill>
        <p:spPr>
          <a:xfrm>
            <a:off x="5754600" y="3505320"/>
            <a:ext cx="31244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1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Miller, Lisa - Mission Viejo High School</cp:lastModifiedBy>
  <dcterms:modified xsi:type="dcterms:W3CDTF">2014-11-07T20:14:43Z</dcterms:modified>
  <cp:revision>128</cp:revision>
  <dc:subject/>
  <dc:title>video slide</dc:title>
</cp:coreProperties>
</file>